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iveby.wav" ContentType="audio/x-wav"/>
  <Override PartName="/ppt/media/image10.jpeg" ContentType="image/jpeg"/>
  <Override PartName="/ppt/media/image5.png" ContentType="image/png"/>
  <Override PartName="/ppt/media/image15.jpeg" ContentType="image/jpeg"/>
  <Override PartName="/ppt/media/image13.png" ContentType="image/png"/>
  <Override PartName="/ppt/media/image12.jpeg" ContentType="image/jpeg"/>
  <Override PartName="/ppt/media/image6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jpeg" ContentType="image/jpeg"/>
  <Override PartName="/ppt/media/image8.png" ContentType="image/png"/>
  <Override PartName="/ppt/media/image14.jpeg" ContentType="image/jpeg"/>
  <Override PartName="/ppt/media/carbrake.wav" ContentType="audio/x-wav"/>
  <Override PartName="/ppt/media/image4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225E-36D4-418E-B90A-94B5832C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D944-47D5-4EDC-B8DC-2FC827EF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C3B-9B05-44DF-8EEA-3A34F99F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24B-D0F1-43C0-8402-03329AA7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93F3-87C7-4B03-AE91-12C80E13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37A-6009-4542-BBCC-BE9FDCC6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C280-DBA1-470B-B818-41268CD1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655-7A5B-470D-8274-F21DC657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32B-FD0E-471E-B7D2-E078A40E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25AE-E086-4C2E-BD8F-D0A38E0B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3C76-6F58-449A-9B22-7AD8D901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C86-6CE6-4A6F-A55B-C5AB55D1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BE3A-7BA1-4913-A5EF-A48F25A0B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806560"/>
            <a:ext cx="4952880" cy="76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La coupe du bo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581280" y="8255160"/>
            <a:ext cx="1074960" cy="1163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52480" y="4457880"/>
            <a:ext cx="3810240" cy="3095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267080" y="825480"/>
            <a:ext cx="1725840" cy="1844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28600" y="3219480"/>
            <a:ext cx="2057400" cy="1932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09480" y="7016760"/>
            <a:ext cx="2057400" cy="1882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04920" y="49536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952880" y="6521400"/>
            <a:ext cx="1570320" cy="214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EC0-D081-40B2-B0E9-CF2F898D1D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4309920"/>
            <a:ext cx="6400800" cy="286344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040000"/>
                </a:solidFill>
                <a:latin typeface="Comic Sans MS"/>
              </a:rPr>
              <a:t>t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US" sz="3600" spc="-1" strike="noStrike">
                <a:solidFill>
                  <a:srgbClr val="fd2009"/>
                </a:solidFill>
                <a:latin typeface="Comic Sans MS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511812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d2009"/>
                </a:solidFill>
                <a:latin typeface="Comic Sans MS"/>
                <a:ea typeface="Times New Roman"/>
              </a:rPr>
              <a:t>60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en-US" sz="5400" spc="-1" strike="noStrike">
                <a:solidFill>
                  <a:srgbClr val="000099"/>
                </a:solidFill>
                <a:latin typeface="Comic Sans MS"/>
              </a:rPr>
              <a:t>V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62737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ommercialPi BT"/>
                <a:ea typeface="CommercialPi BT"/>
              </a:rPr>
              <a:t>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x 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47680"/>
            <a:ext cx="6096240" cy="5205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alcul de la fréquence de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61912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733400"/>
            <a:ext cx="4724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ppel: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= fréquence de rotation 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en tr/min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Vc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= vitesse de coupe 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en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mmercialPi BT"/>
                <a:ea typeface="CommercialPi BT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= nombre Pi = (environ) 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3,14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= diamètre 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en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55888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c= 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682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mercialPi BT"/>
                <a:ea typeface="CommercialPi BT"/>
              </a:rPr>
              <a:t>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 D x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310212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305424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46716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vec la « règle de 3 » on obtient…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113C-40F1-4ECD-BC1D-4079B96DF9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0880" y="247680"/>
            <a:ext cx="6096240" cy="5205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xe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392720"/>
            <a:ext cx="6858000" cy="286344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US" sz="3600" spc="-1" strike="noStrike">
                <a:solidFill>
                  <a:srgbClr val="fd2009"/>
                </a:solidFill>
                <a:latin typeface="Comic Sans MS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549576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0 x 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6356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mercialPi BT"/>
                <a:ea typeface="CommercialPi BT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0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62737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89864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ur un usinage prévu avec une vitesse de coupe de 50 m/s et avec un outil de diamètre 150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313704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Quelle sera la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réquence de rotation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de l’outi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37000" y="5504040"/>
            <a:ext cx="3733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2009"/>
                </a:solidFill>
                <a:latin typeface="Comic Sans MS"/>
              </a:rPr>
              <a:t>6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x V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mercialPi BT"/>
                <a:ea typeface="CommercialPi BT"/>
              </a:rPr>
              <a:t>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6273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701676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  = 6366 tr/min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1C28-47F5-4CB9-9692-858016CB2D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0880" y="1073160"/>
            <a:ext cx="6096240" cy="3323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869b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>
                <a:solidFill>
                  <a:srgbClr val="000000"/>
                </a:solidFill>
                <a:latin typeface="Comic Sans MS"/>
              </a:rPr>
              <a:t>Trop facile !!!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D3A-FF56-45F3-B2B0-AAFB32EBF6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247680"/>
            <a:ext cx="6096240" cy="5205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Utilisation de l’aba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3520" y="2558880"/>
            <a:ext cx="5680080" cy="6274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28600" y="1073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baque des fréquences de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1BA-0F12-4F7E-AF4B-22B9B6580D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4129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Abaque des vitesses de cou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2328840"/>
            <a:ext cx="6858000" cy="556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B408-0DAF-46A6-A63E-719C144454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480" y="3797280"/>
            <a:ext cx="5486400" cy="916920"/>
          </a:xfrm>
          <a:prstGeom prst="rect">
            <a:avLst/>
          </a:prstGeom>
          <a:gradFill rotWithShape="0">
            <a:gsLst>
              <a:gs pos="0">
                <a:srgbClr val="e4c48a"/>
              </a:gs>
              <a:gs pos="100000">
                <a:srgbClr val="c3a77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Récapitulon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AFB8-A741-49B5-96E2-095C198723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Fu2" descr=""/>
          <p:cNvPicPr/>
          <p:nvPr/>
        </p:nvPicPr>
        <p:blipFill>
          <a:blip r:embed="rId1"/>
          <a:stretch/>
        </p:blipFill>
        <p:spPr>
          <a:xfrm>
            <a:off x="2590920" y="7362720"/>
            <a:ext cx="2070000" cy="1681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2590920" y="7486560"/>
            <a:ext cx="2057400" cy="148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933640" y="8681760"/>
            <a:ext cx="103320" cy="4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190760" y="7610400"/>
            <a:ext cx="253800" cy="16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33840" y="7081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040" y="3400560"/>
            <a:ext cx="2971800" cy="337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II. SES COMPOS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04840" y="69912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Ex : Fraise à rai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040" y="2286000"/>
            <a:ext cx="28576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vitesse de coupe résulte de la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binaison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ntr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404640"/>
            <a:ext cx="3963960" cy="398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I. VITESSE DE COU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3054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657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65752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2409840"/>
            <a:ext cx="2666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une distance parcou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705040" y="278136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19240" y="179064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040" y="1042920"/>
            <a:ext cx="6172200" cy="115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vitesse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 coupe</a:t>
            </a:r>
            <a:r>
              <a:rPr b="1" i="1" lang="en-US" sz="1400" spc="-1" strike="noStrike">
                <a:solidFill>
                  <a:srgbClr val="fd2009"/>
                </a:solidFill>
                <a:latin typeface="Comic Sans MS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n la no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05040" y="7238880"/>
            <a:ext cx="1828800" cy="19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05040" y="8105760"/>
            <a:ext cx="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7610400"/>
            <a:ext cx="1714320" cy="64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tour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mmercialPi BT"/>
                <a:ea typeface="CommercialPi BT"/>
              </a:rPr>
              <a:t>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x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6240" y="7981920"/>
            <a:ext cx="125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7981920"/>
            <a:ext cx="45720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1650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c (m/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1680" y="4044960"/>
            <a:ext cx="5524200" cy="265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us donne la distance parcourue par une arête durant 1 t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 calcule av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us donne le nombre de tours que fait l’outil en une min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n la nomm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n divisera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par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60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pour le ramener en tours par secon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404496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d2009"/>
                </a:solidFill>
                <a:latin typeface="Comic Sans MS"/>
              </a:rPr>
              <a:t>Le périmètre  de l’ou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53658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La fréquence de ro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4788000"/>
            <a:ext cx="274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d2009"/>
                </a:solidFill>
                <a:latin typeface="CommercialPi BT"/>
                <a:ea typeface="CommercialPi BT"/>
              </a:rPr>
              <a:t></a:t>
            </a:r>
            <a:r>
              <a:rPr b="1" lang="en-US" sz="2200" spc="-1" strike="noStrike">
                <a:solidFill>
                  <a:srgbClr val="fd2009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d2009"/>
                </a:solidFill>
                <a:latin typeface="Comic Sans MS"/>
              </a:rPr>
              <a:t>x D</a:t>
            </a:r>
            <a:r>
              <a:rPr b="0" lang="en-US" sz="1400" spc="-1" strike="noStrike">
                <a:solidFill>
                  <a:srgbClr val="fd2009"/>
                </a:solidFill>
                <a:latin typeface="Comic Sans MS"/>
              </a:rPr>
              <a:t> (avec D en mèt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5961240"/>
            <a:ext cx="137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omic Sans MS"/>
              </a:rPr>
              <a:t>S</a:t>
            </a:r>
            <a:r>
              <a:rPr b="0" lang="en-US" sz="1400" spc="-1" strike="noStrike">
                <a:solidFill>
                  <a:srgbClr val="000099"/>
                </a:solidFill>
                <a:latin typeface="Comic Sans MS"/>
              </a:rPr>
              <a:t> (tr/mi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100800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d2009"/>
                </a:solidFill>
                <a:latin typeface="Comic Sans MS"/>
                <a:ea typeface="Times New Roman"/>
              </a:rPr>
              <a:t>est la distance parcourue (en mètre) par une arête tranchante en une seco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288936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une dur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C77-D57F-465A-AB3B-CF95CA2352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3520" y="231840"/>
            <a:ext cx="5790960" cy="398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ALCUL DE LA VITESSE DE COU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130480"/>
            <a:ext cx="6400800" cy="27453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c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2195640"/>
            <a:ext cx="434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mmercialPi BT"/>
                <a:ea typeface="CommercialPi BT"/>
              </a:rPr>
              <a:t>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i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i="1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 </a:t>
            </a:r>
            <a:r>
              <a:rPr b="1" i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i="1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62240" y="355752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46716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826920"/>
            <a:ext cx="4724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vec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c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vitesse de coupe 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mmercialPi BT"/>
                <a:ea typeface="CommercialPi BT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 nombre Pi = (environ) 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,14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diamètre 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fréquence de rotation 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tr/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5167440"/>
            <a:ext cx="628668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Exercice 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e toupie, sur laquelle est monté un outil dont le diamètre est 150mm, est réglée à une fréquence de rotation de 6000 tours par min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Quel est sa vitesse de coupe 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714852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c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09960" y="7272360"/>
            <a:ext cx="224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mercialPi BT"/>
                <a:ea typeface="CommercialPi BT"/>
              </a:rPr>
              <a:t>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0.15 x 6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52680" y="7586640"/>
            <a:ext cx="87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09960" y="7643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6281640"/>
            <a:ext cx="4724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ommercialPi BT"/>
                <a:ea typeface="CommercialPi BT"/>
              </a:rPr>
              <a:t>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 (environ) </a:t>
            </a:r>
            <a:r>
              <a:rPr b="1" i="1" lang="fr-FR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,14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</a:t>
            </a:r>
            <a:r>
              <a:rPr b="0" lang="nl-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0.15</a:t>
            </a:r>
            <a:r>
              <a:rPr b="1" i="1" lang="nl-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= 6000 </a:t>
            </a:r>
            <a:r>
              <a:rPr b="1" i="1" lang="nl-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tr/min</a:t>
            </a:r>
            <a:r>
              <a:rPr b="0" lang="nl-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8255160"/>
            <a:ext cx="426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La vitesse de coupe Vc = 47,12 m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12E-20F6-443C-9700-090B205118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2280" y="2130480"/>
            <a:ext cx="6400800" cy="27453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r/mi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2228760"/>
            <a:ext cx="3772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0</a:t>
            </a:r>
            <a:r>
              <a:rPr b="1" i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x </a:t>
            </a:r>
            <a:r>
              <a:rPr b="1" i="1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2240" y="3557520"/>
            <a:ext cx="236232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mmercialPi BT"/>
                <a:ea typeface="CommercialPi BT"/>
              </a:rPr>
              <a:t>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</a:t>
            </a:r>
            <a:r>
              <a:rPr b="1" i="1" lang="en-US" sz="6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346716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714852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7264440"/>
            <a:ext cx="224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0 x 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7642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mercialPi BT"/>
                <a:ea typeface="CommercialPi BT"/>
              </a:rPr>
              <a:t>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0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09960" y="7643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8255160"/>
            <a:ext cx="6019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fréquence de rotation est d’environ 8000 tr/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330120"/>
            <a:ext cx="54864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ALCUL DE LA FREQUENCE DE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073160"/>
            <a:ext cx="4724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vec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= fréquence de rotation 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en tr/min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Vc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= vitesse de coupe 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en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CommercialPi BT"/>
                <a:ea typeface="CommercialPi BT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= nombre Pi = (environ) 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3,14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= diamètre 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en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5464080"/>
            <a:ext cx="628632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Exercice 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our un outil à calibrer diamètre 120, la vitesse de coupe qui m’est imposée est de 50 m/s dans un bois tend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A combien de tours par minute devra être réglée ma toupie 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7182000"/>
            <a:ext cx="121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Vc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= 50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mercialPi BT"/>
                <a:ea typeface="CommercialPi BT"/>
              </a:rPr>
              <a:t>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3,14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= 0.12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FBCE-C1AF-4339-90A8-7F002A7155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28600" y="165240"/>
            <a:ext cx="6380280" cy="98233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62120" y="5961240"/>
            <a:ext cx="548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es moyens de choisir le réglage approprié à l’usinage à effectuer.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57F1-1B3E-4904-8DD2-C5760F8FEE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384720"/>
            <a:ext cx="6172200" cy="9169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a8866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III.Lois d’usin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9A6-F0DF-4910-89CA-6064253074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073160"/>
            <a:ext cx="6727680" cy="7429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066680" y="3301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baque des fréquences de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DBB-D87A-4144-B913-CAA061CCAA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2806560"/>
            <a:ext cx="6858000" cy="5569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219320" y="907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baque des vitesses de cou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40C4-A2B0-4756-8000-55305D961F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247680"/>
            <a:ext cx="6096240" cy="5205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Notion de vite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3219480"/>
            <a:ext cx="5562360" cy="451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124080" y="1238400"/>
            <a:ext cx="3535560" cy="270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66680" y="2063880"/>
            <a:ext cx="2133720" cy="255888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2558880"/>
              <a:gd name="textAreaBottom" fmla="*/ 2559240 h 2558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724120"/>
            <a:ext cx="685800" cy="7642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81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74D-01EB-48A9-8393-B13B1896B0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330120"/>
            <a:ext cx="4647960" cy="3241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320" y="7034040"/>
            <a:ext cx="6705360" cy="212580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 (km/h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76770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ngueur d’1 t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8255160"/>
            <a:ext cx="449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813744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4292640"/>
            <a:ext cx="29718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4292640"/>
            <a:ext cx="3124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627360"/>
            <a:ext cx="3429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 tour = </a:t>
            </a:r>
            <a:r>
              <a:rPr b="0" i="1" lang="en-US" sz="3200" spc="-1" strike="noStrike">
                <a:solidFill>
                  <a:srgbClr val="000000"/>
                </a:solidFill>
                <a:latin typeface="CommercialPi BT"/>
                <a:ea typeface="CommercialPi BT"/>
              </a:rPr>
              <a:t>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d2009"/>
                </a:solidFill>
                <a:latin typeface="Comic Sans MS"/>
              </a:rPr>
              <a:t>2r </a:t>
            </a:r>
            <a:r>
              <a:rPr b="1" lang="en-US" sz="1600" spc="-1" strike="noStrike">
                <a:solidFill>
                  <a:srgbClr val="00cc99"/>
                </a:solidFill>
                <a:latin typeface="Comic Sans MS"/>
              </a:rPr>
              <a:t>=</a:t>
            </a:r>
            <a:r>
              <a:rPr b="1" lang="en-US" sz="1600" spc="-1" strike="noStrike">
                <a:solidFill>
                  <a:srgbClr val="fd2009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mercialPi BT"/>
                <a:ea typeface="CommercialPi BT"/>
              </a:rPr>
              <a:t>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d2009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3879720"/>
            <a:ext cx="3429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 t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7052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4457880"/>
            <a:ext cx="3429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Comic Sans MS"/>
              </a:rPr>
              <a:t>Distance to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083200"/>
            <a:ext cx="5105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a distance pour un tour = périmètre de la ro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943600"/>
            <a:ext cx="6400800" cy="95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a vitesse résulte de la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ombinaison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entr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d2009"/>
                </a:solidFill>
                <a:latin typeface="Comic Sans MS"/>
              </a:rPr>
              <a:t>une </a:t>
            </a:r>
            <a:r>
              <a:rPr b="0" i="1" lang="en-US" sz="2400" spc="-1" strike="noStrike" u="sng">
                <a:solidFill>
                  <a:srgbClr val="fd2009"/>
                </a:solidFill>
                <a:uFillTx/>
                <a:latin typeface="Comic Sans MS"/>
              </a:rPr>
              <a:t>distance parcourue</a:t>
            </a:r>
            <a:r>
              <a:rPr b="0" i="1" lang="en-US" sz="2400" spc="-1" strike="noStrike">
                <a:solidFill>
                  <a:srgbClr val="fd2009"/>
                </a:solidFill>
                <a:latin typeface="Comic Sans MS"/>
              </a:rPr>
              <a:t> et </a:t>
            </a:r>
            <a:r>
              <a:rPr b="0" i="1" lang="en-US" sz="2400" spc="-1" strike="noStrike" u="sng">
                <a:solidFill>
                  <a:srgbClr val="fd2009"/>
                </a:solidFill>
                <a:uFillTx/>
                <a:latin typeface="Comic Sans MS"/>
              </a:rPr>
              <a:t>une dur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7677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7677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5495760"/>
            <a:ext cx="5943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Comic Sans MS"/>
              </a:rPr>
              <a:t>La distance total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= nombre de tour x périmè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00600" y="1980720"/>
            <a:ext cx="609480" cy="412920"/>
          </a:xfrm>
          <a:prstGeom prst="line">
            <a:avLst/>
          </a:prstGeom>
          <a:ln w="57240">
            <a:solidFill>
              <a:srgbClr val="fd200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12384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2009"/>
                </a:solidFill>
                <a:latin typeface="Comic Sans MS"/>
                <a:ea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86DE-5E57-4532-98D8-5DCD6A1E48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412920"/>
            <a:ext cx="5486400" cy="916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869b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Facile, no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714840"/>
            <a:ext cx="6095880" cy="1739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869b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omic Sans MS"/>
              </a:rPr>
              <a:t>Appliquons le pour un outil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A9E-471F-419F-8868-63FE08A1D5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280" y="5613480"/>
            <a:ext cx="6629400" cy="16509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3880" y="1238400"/>
            <a:ext cx="4013280" cy="3260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1981080" y="1733400"/>
            <a:ext cx="2971800" cy="239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981080" y="3796920"/>
            <a:ext cx="457200" cy="33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572000" y="1650960"/>
            <a:ext cx="533520" cy="33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907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487044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 = diamètre (en 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577836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=  fréquence de rotation (en tr/m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64389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=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ombre de tours en 1 min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759800"/>
            <a:ext cx="6477120" cy="581400"/>
          </a:xfrm>
          <a:prstGeom prst="rect">
            <a:avLst/>
          </a:prstGeom>
          <a:solidFill>
            <a:srgbClr val="fd2009">
              <a:alpha val="50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c = vitesse de coupe (en m/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47680"/>
            <a:ext cx="6096240" cy="5205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Vitesse de cou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1556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ise à r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B88-A199-4F85-9CB6-1C991D13E5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4392720"/>
            <a:ext cx="6400800" cy="27723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Vc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US" sz="3600" spc="-1" strike="noStrike">
                <a:solidFill>
                  <a:srgbClr val="fd2009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6521400"/>
            <a:ext cx="1905120" cy="412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4925880"/>
            <a:ext cx="2667240" cy="1100160"/>
          </a:xfrm>
          <a:custGeom>
            <a:avLst/>
            <a:gdLst/>
            <a:ahLst/>
            <a:rect l="l" t="t" r="r" b="b"/>
            <a:pathLst>
              <a:path w="1680" h="640">
                <a:moveTo>
                  <a:pt x="1680" y="304"/>
                </a:moveTo>
                <a:cubicBezTo>
                  <a:pt x="1592" y="232"/>
                  <a:pt x="1504" y="160"/>
                  <a:pt x="1344" y="112"/>
                </a:cubicBezTo>
                <a:cubicBezTo>
                  <a:pt x="1184" y="64"/>
                  <a:pt x="912" y="0"/>
                  <a:pt x="720" y="16"/>
                </a:cubicBezTo>
                <a:cubicBezTo>
                  <a:pt x="528" y="32"/>
                  <a:pt x="312" y="104"/>
                  <a:pt x="192" y="208"/>
                </a:cubicBezTo>
                <a:cubicBezTo>
                  <a:pt x="72" y="312"/>
                  <a:pt x="36" y="476"/>
                  <a:pt x="0" y="640"/>
                </a:cubicBezTo>
              </a:path>
            </a:pathLst>
          </a:custGeom>
          <a:noFill/>
          <a:ln w="4140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520056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CommercialPi BT"/>
                <a:ea typeface="CommercialPi BT"/>
              </a:rPr>
              <a:t>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5400" spc="-1" strike="noStrike">
                <a:solidFill>
                  <a:srgbClr val="000099"/>
                </a:solidFill>
                <a:latin typeface="Comic Sans MS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635652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d2009"/>
                </a:solidFill>
                <a:latin typeface="Comic Sans MS"/>
                <a:ea typeface="Times New Roman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61912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47680"/>
            <a:ext cx="6096240" cy="5205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alcul de la vitesse de cou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029200" y="6108840"/>
            <a:ext cx="533520" cy="660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238400"/>
            <a:ext cx="6019920" cy="45972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Pensez à convertir D en mè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981080"/>
            <a:ext cx="6248520" cy="181800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N’oublions pa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Vc parle de secon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et S de minutes 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20056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5400" spc="-1" strike="noStrike">
                <a:solidFill>
                  <a:srgbClr val="00cc99"/>
                </a:solidFill>
                <a:latin typeface="Comic Sans MS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7924680"/>
            <a:ext cx="3505320" cy="45972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La distance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8585280"/>
            <a:ext cx="6248160" cy="5205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mic Sans MS"/>
              </a:rPr>
              <a:t>Le nombre de tour par minu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77F4-552B-4777-BA31-B40F4F1367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247680"/>
            <a:ext cx="6096240" cy="5205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xe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392720"/>
            <a:ext cx="6858000" cy="286344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Vc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n-US" sz="3600" spc="-1" strike="noStrike">
                <a:solidFill>
                  <a:srgbClr val="fd2009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549576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CommercialPi BT"/>
                <a:ea typeface="CommercialPi BT"/>
              </a:rPr>
              <a:t>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fr-FR" sz="3600" spc="-1" strike="noStrike">
                <a:solidFill>
                  <a:srgbClr val="000099"/>
                </a:solidFill>
                <a:latin typeface="Comic Sans MS"/>
              </a:rPr>
              <a:t>0.15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fr-FR" sz="3600" spc="-1" strike="noStrike">
                <a:solidFill>
                  <a:srgbClr val="00cc99"/>
                </a:solidFill>
                <a:latin typeface="Comic Sans MS"/>
              </a:rPr>
              <a:t>8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635652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d2009"/>
                </a:solidFill>
                <a:latin typeface="Comic Sans MS"/>
                <a:ea typeface="Times New Roman"/>
              </a:rPr>
              <a:t>6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629136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403280"/>
            <a:ext cx="63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e toupie est réglée à une </a:t>
            </a:r>
            <a:r>
              <a:rPr b="1" i="1" lang="en-US" sz="20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fréquence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cc99"/>
                </a:solidFill>
                <a:latin typeface="Comic Sans MS"/>
                <a:ea typeface="Times New Roman"/>
              </a:rPr>
              <a:t>de rot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= 8000 tr/min, sur laquelle est montée une fraise à rainer </a:t>
            </a:r>
            <a:r>
              <a:rPr b="1" i="1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iamèt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50m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13704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Quelle sera la 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vitesse de coupe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de l’outi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7924680"/>
            <a:ext cx="6248160" cy="157212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N’oublions pas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Vc parle de secon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et S de minutes 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6521400"/>
            <a:ext cx="1905120" cy="412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925880"/>
            <a:ext cx="2667240" cy="1100160"/>
          </a:xfrm>
          <a:custGeom>
            <a:avLst/>
            <a:gdLst/>
            <a:ahLst/>
            <a:rect l="l" t="t" r="r" b="b"/>
            <a:pathLst>
              <a:path w="1680" h="640">
                <a:moveTo>
                  <a:pt x="1680" y="304"/>
                </a:moveTo>
                <a:cubicBezTo>
                  <a:pt x="1592" y="232"/>
                  <a:pt x="1504" y="160"/>
                  <a:pt x="1344" y="112"/>
                </a:cubicBezTo>
                <a:cubicBezTo>
                  <a:pt x="1184" y="64"/>
                  <a:pt x="912" y="0"/>
                  <a:pt x="720" y="16"/>
                </a:cubicBezTo>
                <a:cubicBezTo>
                  <a:pt x="528" y="32"/>
                  <a:pt x="312" y="104"/>
                  <a:pt x="192" y="208"/>
                </a:cubicBezTo>
                <a:cubicBezTo>
                  <a:pt x="72" y="312"/>
                  <a:pt x="36" y="476"/>
                  <a:pt x="0" y="640"/>
                </a:cubicBezTo>
              </a:path>
            </a:pathLst>
          </a:custGeom>
          <a:noFill/>
          <a:ln w="4140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292640"/>
            <a:ext cx="4114800" cy="45972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D doit être exprimé en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5530680"/>
            <a:ext cx="3733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fr-FR" sz="36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lang="fr-FR" sz="3600" spc="-1" strike="noStrike">
                <a:solidFill>
                  <a:srgbClr val="00cc99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d2009"/>
                </a:solidFill>
                <a:latin typeface="Comic Sans MS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029200" y="6108840"/>
            <a:ext cx="533520" cy="660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273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70167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Vc = 62.83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F0A-A405-4EF9-8576-413DE8ADC6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7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75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1073160"/>
            <a:ext cx="6096240" cy="1708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869b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>
                <a:solidFill>
                  <a:srgbClr val="000000"/>
                </a:solidFill>
                <a:latin typeface="Comic Sans MS"/>
              </a:rPr>
              <a:t>Génial…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3632040"/>
            <a:ext cx="6096240" cy="2288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fcadb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Comic Sans MS"/>
              </a:rPr>
              <a:t>Mais si je cherche 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3632040"/>
            <a:ext cx="6096240" cy="28602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afcadb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Comic Sans MS"/>
              </a:rPr>
              <a:t>C’est simple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Comic Sans MS"/>
              </a:rPr>
              <a:t>Regardons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BCDF-4B9A-4239-B82D-FB1C1886C6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9T18:04:39Z</dcterms:created>
  <dc:creator>seb</dc:creator>
  <dc:description/>
  <dc:language>en-US</dc:language>
  <cp:lastModifiedBy>seb</cp:lastModifiedBy>
  <dcterms:modified xsi:type="dcterms:W3CDTF">2007-11-29T08:35:58Z</dcterms:modified>
  <cp:revision>53</cp:revision>
  <dc:subject/>
  <dc:title>Présentation PowerPoint</dc:title>
</cp:coreProperties>
</file>