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3.jpeg" ContentType="image/jpeg"/>
  <Override PartName="/ppt/media/image30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58D-A306-4FB2-B763-3740ECFF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6909-F8B3-4281-B1FE-8AC99B22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FD0-AFF0-4376-80E7-BAD0151A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BB1-9B41-4CB6-90DF-C7464B8D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72D-4D2F-48B8-91ED-CD038507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C3F-8A26-4261-BAEC-1B7DEC2A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274-D2E5-4AB0-AFF1-F9782F0C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02E8-9F56-49E4-8AF9-E8C5BEB1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59A6-6CF5-4CEC-A229-6355BD85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D27E-B59D-49C7-A7F9-B529CEEA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2AB-2ADB-4B3A-8723-6AF9AAF5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046-7CCD-433D-9F84-2576A8B8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2C53-A899-42C1-963C-38A2C8479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1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8.pn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6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2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jpeg"/><Relationship Id="rId3" Type="http://schemas.openxmlformats.org/officeDocument/2006/relationships/image" Target="../media/image22.jpeg"/><Relationship Id="rId4" Type="http://schemas.openxmlformats.org/officeDocument/2006/relationships/image" Target="../media/image20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image" Target="../media/image24.png"/><Relationship Id="rId4" Type="http://schemas.openxmlformats.org/officeDocument/2006/relationships/image" Target="../media/image6.pn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5.pn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image" Target="../media/image20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590920"/>
            <a:ext cx="495288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La coupe du bo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581280" y="7620120"/>
            <a:ext cx="1074960" cy="1074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52480" y="41148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267080" y="762120"/>
            <a:ext cx="1725840" cy="1703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057400" cy="178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09480" y="6477120"/>
            <a:ext cx="2057400" cy="173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04920" y="457200"/>
            <a:ext cx="2286000" cy="1547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952880" y="6019920"/>
            <a:ext cx="1570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3505320"/>
            <a:ext cx="5486400" cy="914760"/>
          </a:xfrm>
          <a:prstGeom prst="rect">
            <a:avLst/>
          </a:prstGeom>
          <a:gradFill rotWithShape="0">
            <a:gsLst>
              <a:gs pos="0">
                <a:srgbClr val="e4c48a"/>
              </a:gs>
              <a:gs pos="100000">
                <a:srgbClr val="c3a77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Récapitulon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6400800"/>
            <a:ext cx="59436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s conditions varient sur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676520"/>
            <a:ext cx="66294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719520"/>
            <a:ext cx="59436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s paramètres principaux sont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387440"/>
            <a:ext cx="2135160" cy="335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I. GENERAL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905120"/>
            <a:ext cx="6324480" cy="63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ur réaliser un usinage de qualité et répondant aux normes de sécurité, il est important de bien choisir son outil de l’utiliser dans de bonnes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038480"/>
            <a:ext cx="6553080" cy="11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86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Sa matièr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HSS, HL, HM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6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Sa technologie (outil monobloc, à plaquettes rapportées, assemblés ou en combinai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6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Ses dimen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6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6858000"/>
            <a:ext cx="5943600" cy="149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La vitesse de coupe (V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La fréquence de rotation (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Le type de matériau à usiner (bois massif, panneau de particules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883120"/>
            <a:ext cx="59436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fin de répondre aux attentes, cet outil devra être utilisé dans les conditions préconisé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835360"/>
            <a:ext cx="3963960" cy="335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II. PARAMETRES LIES A L’OUT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5197320"/>
            <a:ext cx="6099120" cy="335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III. PARAMETRES LIES A L’UTILISATION DE L’OUT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5760" y="0"/>
            <a:ext cx="13716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CHNOLO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57360" y="0"/>
            <a:ext cx="31575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es outils de cou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1440" y="0"/>
            <a:ext cx="210024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asse ………………………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née scolaire …………………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1662120" cy="56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CHNOLO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62120" y="0"/>
            <a:ext cx="3324240" cy="56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es outils de cou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86360" y="0"/>
            <a:ext cx="2019240" cy="56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asse ………………………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née scolaire …………………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005600" cy="914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7600" y="685800"/>
            <a:ext cx="6172200" cy="335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IV. MATIERES UTILIS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76200" y="1486080"/>
          <a:ext cx="5600880" cy="2344680"/>
        </p:xfrm>
        <a:graphic>
          <a:graphicData uri="http://schemas.openxmlformats.org/drawingml/2006/table">
            <a:tbl>
              <a:tblPr/>
              <a:tblGrid>
                <a:gridCol w="1217520"/>
                <a:gridCol w="438336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280" y="5316480"/>
            <a:ext cx="6629400" cy="3065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90440" y="4724280"/>
            <a:ext cx="3772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ype d’outil utilisés et vitesses de coupe conseillées en fonction des matériaux à usi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05240" y="4724280"/>
            <a:ext cx="2629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Vitesse de coupe conseillé en fonction du type d’out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254480"/>
            <a:ext cx="6172200" cy="335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V. CAS D’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1447920"/>
          <a:ext cx="5600880" cy="2509560"/>
        </p:xfrm>
        <a:graphic>
          <a:graphicData uri="http://schemas.openxmlformats.org/drawingml/2006/table">
            <a:tbl>
              <a:tblPr/>
              <a:tblGrid>
                <a:gridCol w="1217880"/>
                <a:gridCol w="4383000"/>
              </a:tblGrid>
              <a:tr h="34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Acier spécial, acier allié à l’ou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Acier supérieur, fortement allié à l’ou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ier rap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bure de tungstè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Alliage coulé spé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tell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olycristallin de diam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929120" y="8413920"/>
            <a:ext cx="12430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3080" y="738360"/>
            <a:ext cx="6172200" cy="335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VI. TECHNOLOGIE DE L’OUT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480" y="1371600"/>
            <a:ext cx="20574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til monob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4480" y="1943280"/>
            <a:ext cx="2323800" cy="1214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743200" y="1371600"/>
            <a:ext cx="4114800" cy="1370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Nota: ces outils sont utilisés avec un amenage mécanique pour des raisons de sécurité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1662120" cy="56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CHNOLO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62120" y="0"/>
            <a:ext cx="3324240" cy="56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es outils de cou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86360" y="0"/>
            <a:ext cx="2019240" cy="56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asse ………………………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née scolaire …………………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480" y="3429000"/>
            <a:ext cx="377172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til à plaquettes rapport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320" y="3940200"/>
            <a:ext cx="2400120" cy="1241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666880" y="4038480"/>
            <a:ext cx="4114800" cy="731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334120"/>
            <a:ext cx="24004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til assembl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886200" y="5638680"/>
            <a:ext cx="1195560" cy="1009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4920" y="5943600"/>
            <a:ext cx="3429000" cy="82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7315200"/>
            <a:ext cx="24004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til en combina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7993080"/>
            <a:ext cx="4748040" cy="82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086520" y="7810560"/>
            <a:ext cx="771480" cy="133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876920" y="7772400"/>
            <a:ext cx="1371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rain de fra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6896160"/>
            <a:ext cx="1371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1. 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7315200"/>
            <a:ext cx="1676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2. 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66294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3. 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7048440"/>
            <a:ext cx="1371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. 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7391520"/>
            <a:ext cx="1371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5. 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63960" y="5257800"/>
            <a:ext cx="19940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181480" y="5410080"/>
          <a:ext cx="1675080" cy="125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5410080"/>
                    <a:ext cx="167508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train de fraise" descr=""/>
          <p:cNvPicPr/>
          <p:nvPr/>
        </p:nvPicPr>
        <p:blipFill>
          <a:blip r:embed="rId7"/>
          <a:stretch/>
        </p:blipFill>
        <p:spPr>
          <a:xfrm>
            <a:off x="5170320" y="8153280"/>
            <a:ext cx="763920" cy="790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743200" y="1371600"/>
            <a:ext cx="4114800" cy="2009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Comic Sans MS"/>
              </a:rPr>
              <a:t>Le corps de l’outil et ses parties tranchantes sont entièrement constitués dans une seule matière </a:t>
            </a:r>
            <a:r>
              <a:rPr b="1" i="1" lang="en-US" sz="1400" spc="-1" strike="noStrike">
                <a:solidFill>
                  <a:srgbClr val="ff3300"/>
                </a:solidFill>
                <a:latin typeface="Comic Sans MS"/>
              </a:rPr>
              <a:t>(SP, HES, HS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Nota: ces outils sont utilisés avec un amenage mécanique pour des raisons de sécurité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4057560"/>
            <a:ext cx="4114800" cy="94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cc99"/>
                </a:solidFill>
                <a:latin typeface="Comic Sans MS"/>
              </a:rPr>
              <a:t>Les éléments de coupe ou mises rapportées sont brasés, soudés ou collés sur un corps support généralement en acier non trempé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cc99"/>
                </a:solidFill>
                <a:latin typeface="Comic Sans MS"/>
              </a:rPr>
              <a:t>Matériau de coupe en </a:t>
            </a:r>
            <a:r>
              <a:rPr b="1" i="1" lang="en-US" sz="1400" spc="-1" strike="noStrike">
                <a:solidFill>
                  <a:srgbClr val="00cc99"/>
                </a:solidFill>
                <a:latin typeface="Comic Sans MS"/>
              </a:rPr>
              <a:t>HSS, ASL ou HM</a:t>
            </a:r>
            <a:r>
              <a:rPr b="0" i="1" lang="en-US" sz="1400" spc="-1" strike="noStrike">
                <a:solidFill>
                  <a:srgbClr val="00cc99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5943600"/>
            <a:ext cx="3429000" cy="100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Comic Sans MS"/>
              </a:rPr>
              <a:t>Ces outils sont constitués d’un corps non trempé sur lequel sont fixés mécaniquement des couteaux en </a:t>
            </a:r>
            <a:r>
              <a:rPr b="1" i="1" lang="en-US" sz="1200" spc="-1" strike="noStrike">
                <a:solidFill>
                  <a:srgbClr val="3333cc"/>
                </a:solidFill>
                <a:latin typeface="Comic Sans MS"/>
              </a:rPr>
              <a:t>HSS ou 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8001000"/>
            <a:ext cx="4748040" cy="100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6600"/>
                </a:solidFill>
                <a:latin typeface="Comic Sans MS"/>
              </a:rPr>
              <a:t>Superposition d’outils sur des manchons d’accouplement  (arbre de toupie) formant un ensemble adapté à des types d’usinage (ex.: profils de croisé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6765840"/>
            <a:ext cx="15238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Comic Sans MS"/>
              </a:rPr>
              <a:t>1. couteau (ou f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7162920"/>
            <a:ext cx="16765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8000"/>
                </a:solidFill>
                <a:uFillTx/>
                <a:latin typeface="Comic Sans MS"/>
              </a:rPr>
              <a:t>2. goupille de sécur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77040" y="6629400"/>
            <a:ext cx="13716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800080"/>
                </a:solidFill>
                <a:uFillTx/>
                <a:latin typeface="Comic Sans MS"/>
              </a:rPr>
              <a:t>3. coin de ser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7032600"/>
            <a:ext cx="13716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omic Sans MS"/>
              </a:rPr>
              <a:t>4. vis de fix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7353360"/>
            <a:ext cx="16765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3300"/>
                </a:solidFill>
                <a:uFillTx/>
                <a:latin typeface="Comic Sans MS"/>
              </a:rPr>
              <a:t>5. corps de la fra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7772400"/>
            <a:ext cx="426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5334120"/>
            <a:ext cx="426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34290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3124080"/>
            <a:ext cx="5867280" cy="17377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8866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II.les outils de cou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914400"/>
          <a:ext cx="6095880" cy="2346480"/>
        </p:xfrm>
        <a:graphic>
          <a:graphicData uri="http://schemas.openxmlformats.org/drawingml/2006/table">
            <a:tbl>
              <a:tblPr/>
              <a:tblGrid>
                <a:gridCol w="1325520"/>
                <a:gridCol w="477036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ier spécial, acier allié à l’ou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ier supérieur, fortement allié à l’ou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ier rap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bure de tungstè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iage coulé spé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ll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ycristallin de diam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28600" y="228600"/>
            <a:ext cx="5410080" cy="3661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es différents matériaux utilis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2680" y="4038480"/>
          <a:ext cx="371448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4038480"/>
                    <a:ext cx="37144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733920" y="7010280"/>
          <a:ext cx="2894040" cy="185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7010280"/>
                    <a:ext cx="289404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52280" y="7696080"/>
            <a:ext cx="3505320" cy="64044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Vitesse de coupe par type d’out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429000"/>
            <a:ext cx="6248160" cy="3661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hoix d’outil et de vitesse en fonction des matériau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3352680" cy="1752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292560" y="380880"/>
            <a:ext cx="3565440" cy="1846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809880" y="6062760"/>
            <a:ext cx="3200400" cy="27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85800" y="5638680"/>
            <a:ext cx="1809720" cy="3124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95480" y="4495680"/>
            <a:ext cx="3429000" cy="518400"/>
          </a:xfrm>
          <a:prstGeom prst="rect">
            <a:avLst/>
          </a:prstGeom>
          <a:gradFill rotWithShape="0">
            <a:gsLst>
              <a:gs pos="0">
                <a:srgbClr val="dbdbaf"/>
              </a:gs>
              <a:gs pos="50000">
                <a:srgbClr val="ffffcc"/>
              </a:gs>
              <a:gs pos="100000">
                <a:srgbClr val="dbdbaf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out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028840" y="2286000"/>
            <a:ext cx="152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285640" y="38858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514240" y="510552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510552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2971800"/>
            <a:ext cx="2895480" cy="39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à mises rapport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4038480"/>
            <a:ext cx="1447560" cy="701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nob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5257800"/>
            <a:ext cx="2210040" cy="396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combina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5486400"/>
            <a:ext cx="1600200" cy="396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emb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4191120" cy="5184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echnologie des out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182880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57200" y="1752480"/>
            <a:ext cx="1523880" cy="1449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038480" y="304920"/>
            <a:ext cx="2517840" cy="1315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3733920" y="7238880"/>
            <a:ext cx="2209680" cy="1532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3886200"/>
            <a:ext cx="6019920" cy="3085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e corps de l’outil et ses parties tranchantes sont entièrement constitués dans une seule matière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(SP, HES, HS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ota: ces outils sont utilisés avec un amenage mécanique pour des raisons de sécur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57200"/>
            <a:ext cx="2362320" cy="579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obl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429000" cy="1773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886200" y="1295280"/>
            <a:ext cx="2633760" cy="1623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4920" y="4741920"/>
            <a:ext cx="6019560" cy="2720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es éléments de coupe ou mises rapportées sont brasés, soudés ou collés sur un corps support généralement en acier non tremp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atériau de coupe en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HSS, ASL ou HM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429000"/>
            <a:ext cx="4114800" cy="579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à mises rapport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320" y="49320"/>
            <a:ext cx="4114800" cy="57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Outils assemb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505320" y="3124080"/>
            <a:ext cx="3084480" cy="1974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914400" y="5105520"/>
            <a:ext cx="1538280" cy="1299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124080" y="5867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304920" y="7315200"/>
            <a:ext cx="1523880" cy="1303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4876920" y="7772400"/>
            <a:ext cx="1752480" cy="1130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533520" y="3581280"/>
            <a:ext cx="1538280" cy="1333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1066680"/>
            <a:ext cx="6019920" cy="1798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es outils sont constitués d’un corps non trempé sur lequel sont fixés mécaniquement des couteaux en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HSS ou 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447920" y="5016600"/>
          <a:ext cx="5032080" cy="37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5016600"/>
                    <a:ext cx="503208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28600" y="609480"/>
            <a:ext cx="6172200" cy="70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Principe du positionnement et du serrage des couteaux sur le cor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905120"/>
            <a:ext cx="6019560" cy="4575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1. cou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590920"/>
            <a:ext cx="6019560" cy="45756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Comic Sans MS"/>
              </a:rPr>
              <a:t>2. Goupille de sécu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3352680"/>
            <a:ext cx="5333760" cy="4575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Comic Sans MS"/>
              </a:rPr>
              <a:t>3. Coin de ser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4038480"/>
            <a:ext cx="4953240" cy="457560"/>
          </a:xfrm>
          <a:prstGeom prst="rect">
            <a:avLst/>
          </a:pr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Comic Sans MS"/>
              </a:rPr>
              <a:t>4. Vis de fi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4648320"/>
            <a:ext cx="4419360" cy="457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Comic Sans MS"/>
              </a:rPr>
              <a:t>5. Corps de la fra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201600"/>
            <a:ext cx="457200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Outils en combina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09480" y="1828800"/>
            <a:ext cx="2417760" cy="4176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480" y="6095880"/>
            <a:ext cx="259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rain de fra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7086600"/>
            <a:ext cx="6019920" cy="1554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uperposition d’outils sur des manchons d’accouplement  (arbre de toupie) formant un ensemble adapté à des types d’usinage (ex.: profils e croisé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267080" y="1219320"/>
            <a:ext cx="195588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09:26:24Z</dcterms:created>
  <dc:creator>seb</dc:creator>
  <dc:description/>
  <dc:language>en-US</dc:language>
  <cp:lastModifiedBy>seb</cp:lastModifiedBy>
  <dcterms:modified xsi:type="dcterms:W3CDTF">2003-04-17T14:41:47Z</dcterms:modified>
  <cp:revision>8</cp:revision>
  <dc:subject/>
  <dc:title>Présentation PowerPoint</dc:title>
</cp:coreProperties>
</file>