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947-8679-4454-A077-ADB40E5F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FF6-D309-4E93-947B-68E7FED0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252-2F28-41ED-A762-615FCDD5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B84-D297-436A-880E-6B7925AC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6E1-CAF4-451C-881F-F217258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203-86DE-4DF6-B799-411941E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05E-A769-46A0-B6A7-DBD6DB7C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AF6-18CE-48DB-B089-C4244F7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AA9-9438-4D5C-BCB1-E145C63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9AE-3E81-4150-92CD-754B433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505-CDBE-443F-8E2B-5CE39A2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342-EEB2-4567-9D85-29EE05D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E17-282E-4ABA-ADA0-07C13AEB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590920"/>
            <a:ext cx="495288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La coupe du b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ame" descr=""/>
          <p:cNvPicPr/>
          <p:nvPr/>
        </p:nvPicPr>
        <p:blipFill>
          <a:blip r:embed="rId2"/>
          <a:stretch/>
        </p:blipFill>
        <p:spPr>
          <a:xfrm>
            <a:off x="3581280" y="7620120"/>
            <a:ext cx="1074960" cy="1074600"/>
          </a:xfrm>
          <a:prstGeom prst="rect">
            <a:avLst/>
          </a:prstGeom>
          <a:ln w="0">
            <a:noFill/>
          </a:ln>
        </p:spPr>
      </p:pic>
      <p:pic>
        <p:nvPicPr>
          <p:cNvPr id="43" name="braz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outils" descr=""/>
          <p:cNvPicPr/>
          <p:nvPr/>
        </p:nvPicPr>
        <p:blipFill>
          <a:blip r:embed="rId4"/>
          <a:stretch/>
        </p:blipFill>
        <p:spPr>
          <a:xfrm>
            <a:off x="4267080" y="762120"/>
            <a:ext cx="1725840" cy="1703160"/>
          </a:xfrm>
          <a:prstGeom prst="rect">
            <a:avLst/>
          </a:prstGeom>
          <a:ln w="0">
            <a:noFill/>
          </a:ln>
        </p:spPr>
      </p:pic>
      <p:pic>
        <p:nvPicPr>
          <p:cNvPr id="45" name="grp3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5740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grp5" descr=""/>
          <p:cNvPicPr/>
          <p:nvPr/>
        </p:nvPicPr>
        <p:blipFill>
          <a:blip r:embed="rId6"/>
          <a:stretch/>
        </p:blipFill>
        <p:spPr>
          <a:xfrm>
            <a:off x="609480" y="6477120"/>
            <a:ext cx="2057400" cy="1738080"/>
          </a:xfrm>
          <a:prstGeom prst="rect">
            <a:avLst/>
          </a:prstGeom>
          <a:ln w="0">
            <a:noFill/>
          </a:ln>
        </p:spPr>
      </p:pic>
      <p:pic>
        <p:nvPicPr>
          <p:cNvPr id="47" name="toupie" descr=""/>
          <p:cNvPicPr/>
          <p:nvPr/>
        </p:nvPicPr>
        <p:blipFill>
          <a:blip r:embed="rId7"/>
          <a:stretch/>
        </p:blipFill>
        <p:spPr>
          <a:xfrm>
            <a:off x="304920" y="45720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48" name="ten%20pvc" descr=""/>
          <p:cNvPicPr/>
          <p:nvPr/>
        </p:nvPicPr>
        <p:blipFill>
          <a:blip r:embed="rId8"/>
          <a:stretch/>
        </p:blipFill>
        <p:spPr>
          <a:xfrm>
            <a:off x="4952880" y="6019920"/>
            <a:ext cx="1570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22860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I. Mouvement de cou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1523880"/>
            <a:ext cx="1981080" cy="11912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onti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715000"/>
            <a:ext cx="2667240" cy="6426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Altern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edane2" descr=""/>
          <p:cNvPicPr/>
          <p:nvPr/>
        </p:nvPicPr>
        <p:blipFill>
          <a:blip r:embed="rId1"/>
          <a:stretch/>
        </p:blipFill>
        <p:spPr>
          <a:xfrm>
            <a:off x="5943600" y="6248520"/>
            <a:ext cx="458640" cy="1452600"/>
          </a:xfrm>
          <a:prstGeom prst="rect">
            <a:avLst/>
          </a:prstGeom>
          <a:ln w="0">
            <a:noFill/>
          </a:ln>
        </p:spPr>
      </p:pic>
      <p:pic>
        <p:nvPicPr>
          <p:cNvPr id="166" name="ruban" descr=""/>
          <p:cNvPicPr/>
          <p:nvPr/>
        </p:nvPicPr>
        <p:blipFill>
          <a:blip r:embed="rId2"/>
          <a:stretch/>
        </p:blipFill>
        <p:spPr>
          <a:xfrm>
            <a:off x="785880" y="2971800"/>
            <a:ext cx="9874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grp3" descr=""/>
          <p:cNvPicPr/>
          <p:nvPr/>
        </p:nvPicPr>
        <p:blipFill>
          <a:blip r:embed="rId3"/>
          <a:stretch/>
        </p:blipFill>
        <p:spPr>
          <a:xfrm>
            <a:off x="2666880" y="2971800"/>
            <a:ext cx="1538280" cy="13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2514600"/>
            <a:ext cx="129528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ti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2514600"/>
            <a:ext cx="129564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b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514600"/>
            <a:ext cx="129564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200400"/>
            <a:ext cx="838440" cy="8380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495680"/>
            <a:ext cx="1905120" cy="58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: lame de scie à rub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2210040" cy="337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: fraise de toup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495680"/>
            <a:ext cx="2209680" cy="58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: abrasif de ponceuse orbi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6781680"/>
            <a:ext cx="129564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ti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7848720"/>
            <a:ext cx="2971800" cy="58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: bédane piocheur mortaiseuse à 3 cout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6781680"/>
            <a:ext cx="129564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lip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8001000"/>
            <a:ext cx="2971800" cy="8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: bédane de la mortaiseuse vibrante à 1 cout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251460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l peut ê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505320"/>
            <a:ext cx="5486400" cy="916920"/>
          </a:xfrm>
          <a:prstGeom prst="rect">
            <a:avLst/>
          </a:prstGeom>
          <a:gradFill rotWithShape="0">
            <a:gsLst>
              <a:gs pos="0">
                <a:srgbClr val="e4c48a"/>
              </a:gs>
              <a:gs pos="100000">
                <a:srgbClr val="c3a7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Récapitulo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120816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e résulte de la combinaison des mouvements 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07784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outil de 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183996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ièce de b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degau" descr=""/>
          <p:cNvPicPr/>
          <p:nvPr/>
        </p:nvPicPr>
        <p:blipFill>
          <a:blip r:embed="rId1"/>
          <a:stretch/>
        </p:blipFill>
        <p:spPr>
          <a:xfrm>
            <a:off x="304920" y="3868560"/>
            <a:ext cx="2889000" cy="1171800"/>
          </a:xfrm>
          <a:prstGeom prst="rect">
            <a:avLst/>
          </a:prstGeom>
          <a:ln w="0">
            <a:noFill/>
          </a:ln>
        </p:spPr>
      </p:pic>
      <p:pic>
        <p:nvPicPr>
          <p:cNvPr id="185" name="scie" descr=""/>
          <p:cNvPicPr/>
          <p:nvPr/>
        </p:nvPicPr>
        <p:blipFill>
          <a:blip r:embed="rId2"/>
          <a:stretch/>
        </p:blipFill>
        <p:spPr>
          <a:xfrm>
            <a:off x="804960" y="7257960"/>
            <a:ext cx="277632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1296000" y="4321800"/>
            <a:ext cx="76104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7" y="0"/>
                </a:moveTo>
                <a:arcTo wR="10800" hR="10800" stAng="-5388096" swAng="5388096"/>
                <a:lnTo>
                  <a:pt x="10800" y="10800"/>
                </a:lnTo>
                <a:close/>
              </a:path>
              <a:path fill="none" w="21600" h="21600">
                <a:moveTo>
                  <a:pt x="10837" y="0"/>
                </a:moveTo>
                <a:arcTo wR="10800" hR="10800" stAng="-5388096" swAng="538809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133360" y="3944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325160" y="7897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90664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.1. La pièce se déplace par rapport à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629136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.2. L’outil se déplace par rapport à la 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252576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rabot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dégauchiss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tou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tenonn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585936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mortais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défonceuse à commandes num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a scie radiale pend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24494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580248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70977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707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747864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éplacement de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639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1230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992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12304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600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749160"/>
            <a:ext cx="2400480" cy="337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. GENERALIT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42400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=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uvement d’avance (de la pièc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393696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c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uvement d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6080"/>
            <a:ext cx="3324240" cy="56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coupe du b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sensop" descr=""/>
          <p:cNvPicPr/>
          <p:nvPr/>
        </p:nvPicPr>
        <p:blipFill>
          <a:blip r:embed="rId1"/>
          <a:stretch/>
        </p:blipFill>
        <p:spPr>
          <a:xfrm>
            <a:off x="1446120" y="1430280"/>
            <a:ext cx="1967040" cy="1362240"/>
          </a:xfrm>
          <a:prstGeom prst="rect">
            <a:avLst/>
          </a:prstGeom>
          <a:ln w="0">
            <a:noFill/>
          </a:ln>
        </p:spPr>
      </p:pic>
      <p:pic>
        <p:nvPicPr>
          <p:cNvPr id="208" name="sens1" descr=""/>
          <p:cNvPicPr/>
          <p:nvPr/>
        </p:nvPicPr>
        <p:blipFill>
          <a:blip r:embed="rId2"/>
          <a:stretch/>
        </p:blipFill>
        <p:spPr>
          <a:xfrm>
            <a:off x="4075200" y="3643200"/>
            <a:ext cx="2514600" cy="15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228600"/>
            <a:ext cx="3733920" cy="337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I. LES MODES DE TRAVA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000" y="722160"/>
            <a:ext cx="29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I.1.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ravail en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000" y="1195560"/>
            <a:ext cx="601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travail de l’outil se fait dans </a:t>
            </a:r>
            <a:r>
              <a:rPr b="1" i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le sens inverse au mouvement d’av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9000" y="2957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I.2.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ravail en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cor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7160" y="3300480"/>
            <a:ext cx="601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travail de l’outil se fait dans </a:t>
            </a:r>
            <a:r>
              <a:rPr b="1" i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le même sens que le mouvement d’av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0720" y="1784520"/>
            <a:ext cx="24400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ce manuell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600" y="3986280"/>
            <a:ext cx="2743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ce mécanique obligat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75400" y="35290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8120" y="4672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4720" y="14209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9400" y="244944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6200" y="4557600"/>
            <a:ext cx="2933640" cy="398880"/>
          </a:xfrm>
          <a:prstGeom prst="rect">
            <a:avLst/>
          </a:prstGeom>
          <a:solidFill>
            <a:srgbClr val="fd20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inage dangereux 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usinage1" descr=""/>
          <p:cNvPicPr/>
          <p:nvPr/>
        </p:nvPicPr>
        <p:blipFill>
          <a:blip r:embed="rId3"/>
          <a:stretch/>
        </p:blipFill>
        <p:spPr>
          <a:xfrm>
            <a:off x="1562040" y="6553080"/>
            <a:ext cx="2781360" cy="176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2485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usinage du bois peut se faire dans </a:t>
            </a:r>
            <a:r>
              <a:rPr b="1" i="1" lang="en-US" sz="16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3 directions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5791320"/>
            <a:ext cx="3200400" cy="337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II.LES SENS D’USI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8610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ravers (bois de trav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91040" y="701028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long (bois de f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440" y="849636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bout (bois de b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276360" y="758196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04880" y="7238880"/>
            <a:ext cx="80028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362320" y="8039160"/>
            <a:ext cx="4572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4560" y="883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8915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7353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9200" y="5586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304920"/>
            <a:ext cx="4572000" cy="30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V. POSITIONS DES ARETES TRANCHAN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90720" y="1371600"/>
          <a:ext cx="8762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762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156200" y="1371600"/>
          <a:ext cx="761760" cy="7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6200" y="1371600"/>
                    <a:ext cx="7617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657600" y="3314880"/>
          <a:ext cx="180648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3314880"/>
                    <a:ext cx="180648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95280" y="1981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dro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1828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bia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3103560"/>
          <a:ext cx="919080" cy="8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03560"/>
                    <a:ext cx="9190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57200" y="367524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fau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2292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fau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44578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ara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9080" y="30862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pe cylind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3543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 d’ame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78040" y="6037200"/>
          <a:ext cx="901440" cy="97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8040" y="6037200"/>
                    <a:ext cx="901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164040" y="5961240"/>
          <a:ext cx="341280" cy="109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4040" y="5961240"/>
                    <a:ext cx="3412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54400" y="5961240"/>
          <a:ext cx="998640" cy="100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54400" y="5961240"/>
                    <a:ext cx="99864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52560" y="7790040"/>
          <a:ext cx="839880" cy="9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2560" y="7790040"/>
                    <a:ext cx="83988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086280" y="7675560"/>
          <a:ext cx="317160" cy="116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6280" y="7675560"/>
                    <a:ext cx="31716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152960" y="7790040"/>
          <a:ext cx="927000" cy="93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52960" y="7790040"/>
                    <a:ext cx="92700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52280" y="550404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Rotation à droit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rsque l’outil tourne dans le sens des aiguilles d’une montre (vu du coté moteur (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6989760"/>
            <a:ext cx="601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Rotation à gauch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rsque l’outil tourne dans le sens inverse des aiguilles d’une montre (vu du coté moteur (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806400"/>
            <a:ext cx="6858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la l’arête est placée sur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ériphér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 l’outil, on dit que c’est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e coupe cylindriqu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upe peut être droite ou biais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2406600"/>
            <a:ext cx="6858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la l’arête est placée dans le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 radial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 l’outil, on dit que c’est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e coupe fauchante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La coupe peut être droite ou bia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5124600"/>
            <a:ext cx="2514600" cy="30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. SENS DE 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2971800"/>
            <a:ext cx="4114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697120"/>
            <a:ext cx="685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7872480"/>
            <a:ext cx="685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6157800"/>
            <a:ext cx="685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13524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2201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0440" y="258840"/>
            <a:ext cx="3429000" cy="337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I. MOUVEMENT DE COU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480" y="324324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ouvemen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bedane2" descr=""/>
          <p:cNvPicPr/>
          <p:nvPr/>
        </p:nvPicPr>
        <p:blipFill>
          <a:blip r:embed="rId1"/>
          <a:stretch/>
        </p:blipFill>
        <p:spPr>
          <a:xfrm>
            <a:off x="4191120" y="6786720"/>
            <a:ext cx="458640" cy="1449360"/>
          </a:xfrm>
          <a:prstGeom prst="rect">
            <a:avLst/>
          </a:prstGeom>
          <a:ln w="0">
            <a:noFill/>
          </a:ln>
        </p:spPr>
      </p:pic>
      <p:pic>
        <p:nvPicPr>
          <p:cNvPr id="276" name="ruban" descr=""/>
          <p:cNvPicPr/>
          <p:nvPr/>
        </p:nvPicPr>
        <p:blipFill>
          <a:blip r:embed="rId2"/>
          <a:stretch/>
        </p:blipFill>
        <p:spPr>
          <a:xfrm>
            <a:off x="4076640" y="1643040"/>
            <a:ext cx="987480" cy="1371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52760" y="1986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ti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76440" y="4189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b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3160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48040" y="4157640"/>
            <a:ext cx="571680" cy="57168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1986120"/>
            <a:ext cx="19047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: lame de scie à ru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24324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: fraise de toup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05240" y="4500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: abrasif de ponceuse orbi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57578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ti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8040" y="564372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: bédane piocheur mortaiseuse à 3 coute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724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ip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2440" y="7243920"/>
            <a:ext cx="19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: bédane de la mortaiseuse vibrante à 1 cou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185840"/>
            <a:ext cx="609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mouvement de coupe peut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être continu ou alternati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rp3" descr=""/>
          <p:cNvPicPr/>
          <p:nvPr/>
        </p:nvPicPr>
        <p:blipFill>
          <a:blip r:embed="rId3"/>
          <a:stretch/>
        </p:blipFill>
        <p:spPr>
          <a:xfrm>
            <a:off x="3962520" y="301464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133720" y="3471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2214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3471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22147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450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672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ouvement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erna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598644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747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9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9240" y="69008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124080"/>
            <a:ext cx="586728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8866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I.l’usin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La coupe du bo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752480"/>
            <a:ext cx="6096240" cy="9471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lle résulte de la combinaison des mouvement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6248520"/>
            <a:ext cx="3352680" cy="520560"/>
          </a:xfrm>
          <a:prstGeom prst="rect">
            <a:avLst/>
          </a:prstGeom>
          <a:gradFill rotWithShape="0">
            <a:gsLst>
              <a:gs pos="0">
                <a:srgbClr val="008665"/>
              </a:gs>
              <a:gs pos="50000">
                <a:srgbClr val="00cc99"/>
              </a:gs>
              <a:gs pos="100000">
                <a:srgbClr val="008665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L’outil de c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89360"/>
            <a:ext cx="373356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a pièce de b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51814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utils" descr=""/>
          <p:cNvPicPr/>
          <p:nvPr/>
        </p:nvPicPr>
        <p:blipFill>
          <a:blip r:embed="rId1"/>
          <a:stretch/>
        </p:blipFill>
        <p:spPr>
          <a:xfrm>
            <a:off x="4724280" y="4572000"/>
            <a:ext cx="16225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mor" descr=""/>
          <p:cNvPicPr/>
          <p:nvPr/>
        </p:nvPicPr>
        <p:blipFill>
          <a:blip r:embed="rId2"/>
          <a:stretch/>
        </p:blipFill>
        <p:spPr>
          <a:xfrm>
            <a:off x="3352680" y="6934320"/>
            <a:ext cx="2438640" cy="1949400"/>
          </a:xfrm>
          <a:prstGeom prst="rect">
            <a:avLst/>
          </a:prstGeom>
          <a:ln w="0">
            <a:noFill/>
          </a:ln>
        </p:spPr>
      </p:pic>
      <p:pic>
        <p:nvPicPr>
          <p:cNvPr id="57" name="phot-52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2286000" cy="1509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7772400"/>
            <a:ext cx="2362320" cy="914400"/>
          </a:xfrm>
          <a:prstGeom prst="rightArrow">
            <a:avLst>
              <a:gd name="adj1" fmla="val 50000"/>
              <a:gd name="adj2" fmla="val 64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egau" descr=""/>
          <p:cNvPicPr/>
          <p:nvPr/>
        </p:nvPicPr>
        <p:blipFill>
          <a:blip r:embed="rId1"/>
          <a:stretch/>
        </p:blipFill>
        <p:spPr>
          <a:xfrm>
            <a:off x="304920" y="3913200"/>
            <a:ext cx="6248160" cy="253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2535120" y="4217760"/>
            <a:ext cx="1104840" cy="152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" y="6070"/>
                </a:moveTo>
                <a:arcTo wR="10800" hR="10800" stAng="-9241401" swAng="3186057"/>
                <a:lnTo>
                  <a:pt x="10800" y="10800"/>
                </a:lnTo>
                <a:close/>
              </a:path>
              <a:path fill="none" w="21600" h="21600">
                <a:moveTo>
                  <a:pt x="1091" y="6070"/>
                </a:moveTo>
                <a:arcTo wR="10800" hR="10800" stAng="-9241401" swAng="3186057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7960" y="4218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243160"/>
            <a:ext cx="60199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.1. La pièce se déplace par rapport à l’ou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96080"/>
            <a:ext cx="28191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res exe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58942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= mouvement d’avance (de la pièc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51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58972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c= mouvement de 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913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7848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6858000"/>
            <a:ext cx="25909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rabot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7543800"/>
            <a:ext cx="22096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tou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8229600"/>
            <a:ext cx="281916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tenonn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048120" y="7238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8153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581280"/>
            <a:ext cx="449568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mple: 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dégauchiss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57200"/>
            <a:ext cx="609588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.Déplacements relati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295280"/>
            <a:ext cx="38862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 combinaisons pos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04920"/>
            <a:ext cx="60199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.2. L’outil se déplace par rapport à la piè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086600"/>
            <a:ext cx="281952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res exe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7620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8077320"/>
            <a:ext cx="28958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ortais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638680"/>
            <a:ext cx="571500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éfonceuse à commandes numé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590560" y="6629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1676520"/>
            <a:ext cx="44956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mple: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scie radiale pend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cie" descr=""/>
          <p:cNvPicPr/>
          <p:nvPr/>
        </p:nvPicPr>
        <p:blipFill>
          <a:blip r:embed="rId5"/>
          <a:stretch/>
        </p:blipFill>
        <p:spPr>
          <a:xfrm>
            <a:off x="838080" y="2373480"/>
            <a:ext cx="5410440" cy="280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2438280" y="3668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373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2115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placement de l’ou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ensop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206520" cy="2220840"/>
          </a:xfrm>
          <a:prstGeom prst="rect">
            <a:avLst/>
          </a:prstGeom>
          <a:ln w="0">
            <a:noFill/>
          </a:ln>
        </p:spPr>
      </p:pic>
      <p:pic>
        <p:nvPicPr>
          <p:cNvPr id="89" name="sens1" descr=""/>
          <p:cNvPicPr/>
          <p:nvPr/>
        </p:nvPicPr>
        <p:blipFill>
          <a:blip r:embed="rId2"/>
          <a:stretch/>
        </p:blipFill>
        <p:spPr>
          <a:xfrm>
            <a:off x="3124080" y="6781680"/>
            <a:ext cx="36576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457200"/>
            <a:ext cx="609588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I.Les modes de trav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219320"/>
            <a:ext cx="3886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.1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 op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905120"/>
            <a:ext cx="6019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 travail de l’outil se fait dans le sens inverse au mouvement d’a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257800"/>
            <a:ext cx="38862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I.2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 concor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943600"/>
            <a:ext cx="601992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 travail de l’outil se fait dans le même sens que le mouvement d’a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048120"/>
            <a:ext cx="3276720" cy="368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vance manuelle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0"/>
            <a:ext cx="251460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vance mécanique oblig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d07304_" descr=""/>
          <p:cNvPicPr/>
          <p:nvPr/>
        </p:nvPicPr>
        <p:blipFill>
          <a:blip r:embed="rId7"/>
          <a:stretch/>
        </p:blipFill>
        <p:spPr>
          <a:xfrm>
            <a:off x="1600200" y="6858000"/>
            <a:ext cx="1822320" cy="18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1320" y="7010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8381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048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343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8458200"/>
            <a:ext cx="2590560" cy="39888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inage danger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usinage1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5105160" cy="323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5638680" y="4648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428640" y="2819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742840" y="58669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00200"/>
            <a:ext cx="601992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usinage du bois peut se faire dans 3 dire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57200"/>
            <a:ext cx="609588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II.Les sens d’usin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8153280"/>
            <a:ext cx="1904760" cy="459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 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7543800"/>
            <a:ext cx="1904760" cy="45972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 tra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6934320"/>
            <a:ext cx="190476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543800"/>
            <a:ext cx="381240" cy="45972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8153280"/>
            <a:ext cx="381240" cy="459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6934320"/>
            <a:ext cx="38124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8153280"/>
            <a:ext cx="2133720" cy="459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ois de 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543800"/>
            <a:ext cx="2743200" cy="45972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ois de  tra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6934320"/>
            <a:ext cx="175284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ois de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685800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V. Positions des arêtes tranch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590920"/>
          <a:ext cx="205740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20574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57600" y="2666880"/>
          <a:ext cx="1860480" cy="18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666880"/>
                    <a:ext cx="18604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98960" y="6872400"/>
          <a:ext cx="3659040" cy="22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8960" y="6872400"/>
                    <a:ext cx="365904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1143000"/>
            <a:ext cx="2819520" cy="459720"/>
          </a:xfrm>
          <a:prstGeom prst="rect">
            <a:avLst/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 l’arête 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1600200"/>
            <a:ext cx="2743200" cy="9471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position périph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600200"/>
            <a:ext cx="335268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cylind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15238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948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upe dro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upe bi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10080"/>
            <a:ext cx="2438640" cy="9471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position rad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410080"/>
            <a:ext cx="33530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upe fauch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34816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6415200"/>
          <a:ext cx="2438280" cy="18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6415200"/>
                    <a:ext cx="24382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57200" y="77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Coupe fauch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8472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Coupe fau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8853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upe ara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8263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upe cylind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7176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 d’ame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143000"/>
            <a:ext cx="3352680" cy="459720"/>
          </a:xfrm>
          <a:prstGeom prst="rect">
            <a:avLst/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n dit que c’est 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52880"/>
            <a:ext cx="2819520" cy="459720"/>
          </a:xfrm>
          <a:prstGeom prst="rect">
            <a:avLst/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 l’arête 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4952880"/>
            <a:ext cx="3352680" cy="459720"/>
          </a:xfrm>
          <a:prstGeom prst="rect">
            <a:avLst/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n dit que c’est 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33520" y="2666880"/>
          <a:ext cx="19605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66880"/>
                    <a:ext cx="1960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819520" y="2819520"/>
          <a:ext cx="6159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19520"/>
                    <a:ext cx="615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09880" y="2590920"/>
          <a:ext cx="2347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590920"/>
                    <a:ext cx="2347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11280" y="5943600"/>
          <a:ext cx="1795320" cy="213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5943600"/>
                    <a:ext cx="1795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744640" y="6019920"/>
          <a:ext cx="727200" cy="26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4640" y="6019920"/>
                    <a:ext cx="727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11680" y="6019920"/>
          <a:ext cx="227016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11680" y="6019920"/>
                    <a:ext cx="2270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22860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. Sens de ro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00200"/>
            <a:ext cx="6019560" cy="5806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2009"/>
                </a:solidFill>
                <a:latin typeface="Comic Sans MS"/>
              </a:rPr>
              <a:t>Rotation à droit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lorsque l’outil tourne dans le sens des aiguilles d’une montre (vu du coté moteur (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5181480"/>
            <a:ext cx="6019920" cy="5806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2009"/>
                </a:solidFill>
                <a:latin typeface="Comic Sans MS"/>
              </a:rPr>
              <a:t>Rotation à gauch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lorsque l’outil tourne dans le sens inverse des aiguilles d’une montre (vu du coté moteur (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9:04:22Z</dcterms:created>
  <dc:creator>seb</dc:creator>
  <dc:description/>
  <dc:language>en-US</dc:language>
  <cp:lastModifiedBy>seb</cp:lastModifiedBy>
  <dcterms:modified xsi:type="dcterms:W3CDTF">2002-02-27T10:03:00Z</dcterms:modified>
  <cp:revision>5</cp:revision>
  <dc:subject/>
  <dc:title>Présentation PowerPoint</dc:title>
</cp:coreProperties>
</file>