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907588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D0E-1EED-4AAB-AE9E-5AD65CF4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08C3-84FC-4416-B5F0-76F4EDD3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9BC-F292-4E8E-92E5-71614EF3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D54-1A2B-46CF-9761-75011849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FE4-B447-49F5-8CCD-9DDFC35E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E97-2D5A-405B-96BC-20970B79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8A2-D167-4532-B122-2A5A7566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16D-245F-4006-818D-BB5F84FA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1DD-92E5-4E0C-83FC-517E7B96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289-84F1-4556-927A-A9F920EA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FE5-2249-4740-8B0C-04ED03EA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B08-B733-42A2-AAE1-8AA82687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6C2C-53B4-4AFD-8C40-799CF1951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56BC-AD49-4309-9128-90BD2ED861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81000" y="1857240"/>
          <a:ext cx="177804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1857240"/>
                    <a:ext cx="17780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907920" y="4737240"/>
          <a:ext cx="1944720" cy="88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7920" y="4737240"/>
                    <a:ext cx="194472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" name=""/>
          <p:cNvGrpSpPr/>
          <p:nvPr/>
        </p:nvGrpSpPr>
        <p:grpSpPr>
          <a:xfrm>
            <a:off x="981000" y="3368520"/>
            <a:ext cx="1871640" cy="718920"/>
            <a:chOff x="981000" y="3368520"/>
            <a:chExt cx="1871640" cy="718920"/>
          </a:xfrm>
        </p:grpSpPr>
        <p:sp>
          <p:nvSpPr>
            <p:cNvPr id="50" name=""/>
            <p:cNvSpPr/>
            <p:nvPr/>
          </p:nvSpPr>
          <p:spPr>
            <a:xfrm>
              <a:off x="981000" y="336852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52640" y="336852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2280" y="38001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491920" y="380016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81000" y="408744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81000" y="3368520"/>
              <a:ext cx="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 flipH="1" flipV="1">
            <a:off x="2781360" y="408744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84640" y="44481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81360" y="5527440"/>
            <a:ext cx="1079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60640" y="57434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997360" y="221616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9360" y="22161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80640" y="6537240"/>
            <a:ext cx="2016720" cy="863640"/>
            <a:chOff x="980640" y="6537240"/>
            <a:chExt cx="2016720" cy="863640"/>
          </a:xfrm>
        </p:grpSpPr>
        <p:sp>
          <p:nvSpPr>
            <p:cNvPr id="63" name=""/>
            <p:cNvSpPr/>
            <p:nvPr/>
          </p:nvSpPr>
          <p:spPr>
            <a:xfrm>
              <a:off x="981000" y="65372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52640" y="6681960"/>
              <a:ext cx="144720" cy="14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2852640" y="6537240"/>
              <a:ext cx="14472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980640" y="740088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81000" y="65372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852640" y="6970680"/>
              <a:ext cx="14472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2852640" y="6825960"/>
              <a:ext cx="14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852640" y="7257960"/>
              <a:ext cx="14472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852640" y="7113240"/>
              <a:ext cx="14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3212640" y="704196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72579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84280" y="1136520"/>
            <a:ext cx="388944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Les principaux profil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0280" y="18572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n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9720" y="66088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ro-den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16280" y="53132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ul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45000" y="39448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uill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7560" y="5173560"/>
            <a:ext cx="453708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sur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4200" y="6757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00280" y="6757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57640" y="6757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60640" y="92725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360" y="9344160"/>
            <a:ext cx="20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4640" y="7407360"/>
            <a:ext cx="468180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en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16280" y="92012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04640" y="5678640"/>
          <a:ext cx="809640" cy="107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640" y="5678640"/>
                    <a:ext cx="80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771560" y="5607000"/>
          <a:ext cx="951120" cy="108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1560" y="5607000"/>
                    <a:ext cx="95112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068640" y="5749920"/>
          <a:ext cx="1535040" cy="93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8640" y="5749920"/>
                    <a:ext cx="153504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47560" y="7975440"/>
          <a:ext cx="1224000" cy="106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7560" y="7975440"/>
                    <a:ext cx="122400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2276640" y="7975440"/>
          <a:ext cx="1152360" cy="102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76640" y="7975440"/>
                    <a:ext cx="11523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292640" y="7975440"/>
          <a:ext cx="1538280" cy="1182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92640" y="7975440"/>
                    <a:ext cx="1538280" cy="11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156280" y="5246640"/>
          <a:ext cx="1197000" cy="1303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56280" y="5246640"/>
                    <a:ext cx="1197000" cy="13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4869000" y="67579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81000" y="128124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2: Nommez ces usinages en bois de fi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491920" y="18572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92280" y="18572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92280" y="26496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643200" y="23623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55920" y="2362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355920" y="2146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5920" y="2146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43200" y="18572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578480" y="19303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8480" y="19303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8480" y="265104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443560" y="236232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43560" y="2362320"/>
            <a:ext cx="35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802480" y="19303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58480" y="18572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8840" y="18572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8840" y="26496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409760" y="236232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411200" y="2362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698480" y="2146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11200" y="21463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9760" y="185724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92280" y="28656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9920" y="28656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8840" y="29383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5920" y="27050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Languet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859200" y="32241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9200" y="32241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59200" y="394488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013360" y="3224160"/>
            <a:ext cx="698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60640" y="42321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341360" y="3297240"/>
          <a:ext cx="1513080" cy="63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341360" y="3297240"/>
                    <a:ext cx="1513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1413000" y="42321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13360" y="3297240"/>
            <a:ext cx="7128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013360" y="3368520"/>
            <a:ext cx="698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13360" y="3441600"/>
            <a:ext cx="7128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013360" y="3511440"/>
            <a:ext cx="698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13360" y="3584520"/>
            <a:ext cx="7128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013360" y="3656160"/>
            <a:ext cx="69840" cy="7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013360" y="3728880"/>
            <a:ext cx="71280" cy="7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013360" y="3800520"/>
            <a:ext cx="6984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13360" y="3873600"/>
            <a:ext cx="7128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0280" y="444816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3: Nommez ces assembl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33720" y="344520"/>
            <a:ext cx="2737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evoir Liaisons d’assemb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4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3360" y="1857240"/>
            <a:ext cx="61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5: Représentez 5 types de liaisons d’élargissement et nommez 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04640" y="2289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92280" y="2289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8640" y="2289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4640" y="3297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92280" y="3297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08640" y="329724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76280" y="30812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65360" y="30812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81360" y="30812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9360" y="42321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38440" y="42321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54440" y="42321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3360" y="5313240"/>
            <a:ext cx="36036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720" y="5313240"/>
            <a:ext cx="1295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05360" y="5241960"/>
            <a:ext cx="2872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57720" y="5816520"/>
            <a:ext cx="1871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84640" y="8337600"/>
            <a:ext cx="3024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84640" y="8121600"/>
            <a:ext cx="3024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2923920" y="79056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24280" y="7905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24280" y="8265960"/>
            <a:ext cx="360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2923920" y="81216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24280" y="790560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03920" y="790560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3360" y="4664160"/>
            <a:ext cx="61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6: Nommez deux possibilités d’assemblage pour chacun des croqui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60280" y="7184880"/>
            <a:ext cx="612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7: Nommez ce type d’assemblage et décrivez comment vous le réaliseriez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0280" y="884088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0280" y="91296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54080" y="61768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54080" y="66088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08640" y="565776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08640" y="666576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0280" y="941688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581360" y="52974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1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81360" y="62881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2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81000" y="587376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1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81000" y="63054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2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evoir Liaisons d’assemb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B56E-FFFB-4DA7-9CBB-0CAAF9C9A1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89000" y="2289240"/>
            <a:ext cx="6264360" cy="5851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6280" y="1639800"/>
            <a:ext cx="388944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6280" y="4376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ture en queue d’aro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65360" y="47372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doigt de g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0000" y="48085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uril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81360" y="62485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micro-den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9000" y="6176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siffl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37000" y="754524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étr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0000" y="77612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tenon morta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280" y="7832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sifflet avec but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60640" y="25052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BOUTAGE (allonge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9320-038C-432A-A083-40BE4AC79B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04920" y="2144880"/>
            <a:ext cx="6553080" cy="6911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76280" y="1639800"/>
            <a:ext cx="388944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2321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plat j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92640" y="8624880"/>
            <a:ext cx="244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- languet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+ ong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84280" y="86803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Bouvetage symét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13000" y="538488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- 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3360" y="72579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– fausse 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0000" y="6608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Languette bâta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41720" y="70405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cro-den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9720" y="488160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– fausse 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0000" y="365760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60640" y="25052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Élargiss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4C51-F0CB-4A1B-9E68-B2BF37EF20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1928880"/>
            <a:ext cx="6858000" cy="6912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6280" y="1639800"/>
            <a:ext cx="453708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sur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600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mi-b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5000" y="50245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mi-b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0000" y="466560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enfourch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16280" y="72579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queue d’aro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826596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enon - morta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5000" y="344520"/>
            <a:ext cx="647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C558-1B06-441C-96A7-62A7A223FCA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2792520"/>
            <a:ext cx="6858000" cy="4573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6280" y="1639800"/>
            <a:ext cx="468144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en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656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feuil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41720" y="67532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tour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73360" y="444816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-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29360" y="444816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eues dro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437688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eues mécan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0640" y="6897600"/>
            <a:ext cx="16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queues d’aron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76640" y="560088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coupe d’ong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41720" y="6753240"/>
            <a:ext cx="16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faux tenon ou pig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81000" y="1335240"/>
          <a:ext cx="86364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1000" y="1335240"/>
                    <a:ext cx="863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33720" y="1335240"/>
          <a:ext cx="79236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33720" y="1335240"/>
                    <a:ext cx="7923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2349360" y="1335240"/>
            <a:ext cx="935280" cy="360360"/>
            <a:chOff x="2349360" y="1335240"/>
            <a:chExt cx="935280" cy="360360"/>
          </a:xfrm>
        </p:grpSpPr>
        <p:sp>
          <p:nvSpPr>
            <p:cNvPr id="144" name=""/>
            <p:cNvSpPr/>
            <p:nvPr/>
          </p:nvSpPr>
          <p:spPr>
            <a:xfrm>
              <a:off x="2349360" y="1335240"/>
              <a:ext cx="9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84640" y="1335240"/>
              <a:ext cx="0" cy="2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04640" y="1551600"/>
              <a:ext cx="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04640" y="1551600"/>
              <a:ext cx="18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349360" y="1695600"/>
              <a:ext cx="75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49360" y="13352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516640" y="1406160"/>
            <a:ext cx="718560" cy="287640"/>
            <a:chOff x="5516640" y="1406160"/>
            <a:chExt cx="718560" cy="287640"/>
          </a:xfrm>
        </p:grpSpPr>
        <p:sp>
          <p:nvSpPr>
            <p:cNvPr id="151" name=""/>
            <p:cNvSpPr/>
            <p:nvPr/>
          </p:nvSpPr>
          <p:spPr>
            <a:xfrm>
              <a:off x="5516640" y="1406520"/>
              <a:ext cx="6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183720" y="1454400"/>
              <a:ext cx="51480" cy="4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6183720" y="1406160"/>
              <a:ext cx="51480" cy="4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516640" y="1693800"/>
              <a:ext cx="6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16640" y="14065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183720" y="1550520"/>
              <a:ext cx="51480" cy="4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6183720" y="1502280"/>
              <a:ext cx="51480" cy="4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183720" y="1646280"/>
              <a:ext cx="51480" cy="4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6183720" y="1597680"/>
              <a:ext cx="51480" cy="4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92280" y="849240"/>
            <a:ext cx="388944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es principaux profil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02360" y="169560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cro-den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2000" y="18399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9360" y="17668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ul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1766880"/>
            <a:ext cx="24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uill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0" y="2144880"/>
            <a:ext cx="6858000" cy="3743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33360" y="2144880"/>
            <a:ext cx="388944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b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6280" y="344016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ture en queue d’aron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41720" y="380052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doigt de g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29360" y="3871800"/>
            <a:ext cx="136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ourill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68640" y="473724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micro-den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3360" y="466416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siffl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68640" y="560088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ét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17960" y="567216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tenon morta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4640" y="574524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n sifflet avec buté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49720" y="21448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BOUTAGE (allonge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692280" y="6105600"/>
            <a:ext cx="5716440" cy="3529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6176880"/>
            <a:ext cx="388944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f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0280" y="71391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À plat j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33720" y="9443880"/>
            <a:ext cx="29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inure - languette + ong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84280" y="94438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Bouvetage symétr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84280" y="77882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inure - langu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7231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inure – fausse langu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0000" y="84358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nguette bâtar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41720" y="85806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cro-d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73360" y="75722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inure – fausse langu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65720" y="704052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ainure langue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33720" y="63928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Élargiss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1424160"/>
            <a:ext cx="6858000" cy="3743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76280" y="1424160"/>
            <a:ext cx="453708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sur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4401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À mi-b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76640" y="30798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À mi-b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0000" y="2863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 enfourch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16280" y="424512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À queue d’aron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95144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enon - morta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0" y="5226120"/>
            <a:ext cx="6858000" cy="4573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76280" y="5384880"/>
            <a:ext cx="468144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travers en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09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 feuil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41720" y="91868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tour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73360" y="688176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inure -languet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29360" y="688176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eues dro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45000" y="681048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Queues mécaniq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20640" y="9331200"/>
            <a:ext cx="16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queues d’aron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076640" y="8034480"/>
            <a:ext cx="14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coupe d’ong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41720" y="9186840"/>
            <a:ext cx="16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À faux tenon ou pig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0" y="0"/>
          <a:ext cx="6858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Liaisons d’assemblage (su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692280" y="1568520"/>
            <a:ext cx="5716440" cy="3529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639800"/>
            <a:ext cx="3889440" cy="307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Assemblage en bois de f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0280" y="2602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3720" y="4906800"/>
            <a:ext cx="29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84280" y="49068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84280" y="3251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186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10000" y="38988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41720" y="40435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73360" y="3035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21000" y="25304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33720" y="1855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Élargiss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558800"/>
            <a:ext cx="6858000" cy="381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5024520"/>
          <a:ext cx="6858000" cy="44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24520"/>
                    <a:ext cx="685800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0" y="1568520"/>
          <a:ext cx="4137120" cy="27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68520"/>
                    <a:ext cx="41371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 flipH="1" flipV="1">
            <a:off x="2060280" y="2936520"/>
            <a:ext cx="730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97000" y="2720520"/>
            <a:ext cx="718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707920" y="3296880"/>
            <a:ext cx="73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653000" y="1928880"/>
          <a:ext cx="2205000" cy="13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53000" y="1928880"/>
                    <a:ext cx="220500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 flipH="1" flipV="1">
            <a:off x="333000" y="408888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64080" y="3295800"/>
          <a:ext cx="2293920" cy="130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64080" y="3295800"/>
                    <a:ext cx="229392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 flipH="1">
            <a:off x="4581360" y="6321600"/>
            <a:ext cx="432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349360" y="6969240"/>
            <a:ext cx="792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00280" y="50245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097600"/>
            <a:ext cx="659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e te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94820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:                             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40" y="0"/>
          <a:ext cx="6858000" cy="13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0" y="0"/>
                    <a:ext cx="6858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2205000" y="344520"/>
            <a:ext cx="647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9000" y="1424160"/>
            <a:ext cx="64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a mort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81000" y="1065240"/>
            <a:ext cx="58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1: Nommez les parties de la mortaise et du tenon ci-desso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32280" y="338040"/>
            <a:ext cx="2736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Devoir Liaisons d’assemb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3:41:52Z</dcterms:created>
  <dc:creator>Caroline Liadouze</dc:creator>
  <dc:description/>
  <dc:language>en-US</dc:language>
  <cp:lastModifiedBy>seb</cp:lastModifiedBy>
  <dcterms:modified xsi:type="dcterms:W3CDTF">2007-10-10T15:36:50Z</dcterms:modified>
  <cp:revision>48</cp:revision>
  <dc:subject/>
  <dc:title>Diapositive 1</dc:title>
</cp:coreProperties>
</file>