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BC7-776C-4908-8551-E3821E53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2E2-8650-4613-B766-BF3687A9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97B-1DBF-4FCD-AAEF-7CEE483D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355-64BC-49C2-9F49-F1B6907A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DDE-D806-4BBC-830E-A788D6B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E0D-0F2C-484C-A37F-608D35FE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B23-98B3-462A-AD63-484EAF31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CDF-4BC9-42B1-82CC-E5A20239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587-BBDA-446A-A34A-41F8F50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2D9-585F-4F65-9338-7A649A2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0EF-F5EB-4628-8F4D-E097898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084-6E44-4CEE-9D13-BED65F86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E470-C681-4DD0-9941-1574763B7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D91A-298D-47CD-BD38-409725B47C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81000" y="1857240"/>
          <a:ext cx="17780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1857240"/>
                    <a:ext cx="17780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907920" y="4737240"/>
          <a:ext cx="1944720" cy="88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7920" y="4737240"/>
                    <a:ext cx="194472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981000" y="3368520"/>
            <a:ext cx="1871640" cy="718920"/>
            <a:chOff x="981000" y="3368520"/>
            <a:chExt cx="1871640" cy="718920"/>
          </a:xfrm>
        </p:grpSpPr>
        <p:sp>
          <p:nvSpPr>
            <p:cNvPr id="50" name=""/>
            <p:cNvSpPr/>
            <p:nvPr/>
          </p:nvSpPr>
          <p:spPr>
            <a:xfrm>
              <a:off x="981000" y="33685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52640" y="33685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2280" y="38001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491920" y="38001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81000" y="40874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81000" y="33685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 flipH="1" flipV="1">
            <a:off x="2781360" y="40874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4640" y="44481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81360" y="5527440"/>
            <a:ext cx="1079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60640" y="57434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997360" y="221616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9360" y="22161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80640" y="6537240"/>
            <a:ext cx="2016720" cy="863640"/>
            <a:chOff x="980640" y="6537240"/>
            <a:chExt cx="2016720" cy="863640"/>
          </a:xfrm>
        </p:grpSpPr>
        <p:sp>
          <p:nvSpPr>
            <p:cNvPr id="63" name=""/>
            <p:cNvSpPr/>
            <p:nvPr/>
          </p:nvSpPr>
          <p:spPr>
            <a:xfrm>
              <a:off x="981000" y="65372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52640" y="66819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2852640" y="6537240"/>
              <a:ext cx="14472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80640" y="74008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1000" y="65372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852640" y="6970680"/>
              <a:ext cx="1447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2852640" y="6825960"/>
              <a:ext cx="14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852640" y="7257960"/>
              <a:ext cx="1447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852640" y="7113240"/>
              <a:ext cx="14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3212640" y="70419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72579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84280" y="1136520"/>
            <a:ext cx="3889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Les principaux profil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0280" y="185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66088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-den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16280" y="5313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u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45000" y="39448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uil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7560" y="5173560"/>
            <a:ext cx="453708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sur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4200" y="6757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00280" y="6757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57640" y="6757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60640" y="9272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360" y="9344160"/>
            <a:ext cx="20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4640" y="7407360"/>
            <a:ext cx="468180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en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16280" y="92012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04640" y="5678640"/>
          <a:ext cx="809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5678640"/>
                    <a:ext cx="80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771560" y="5607000"/>
          <a:ext cx="951120" cy="108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1560" y="5607000"/>
                    <a:ext cx="95112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068640" y="5749920"/>
          <a:ext cx="1535040" cy="93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8640" y="5749920"/>
                    <a:ext cx="15350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47560" y="7975440"/>
          <a:ext cx="1224000" cy="106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7560" y="7975440"/>
                    <a:ext cx="1224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276640" y="7975440"/>
          <a:ext cx="1152360" cy="102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76640" y="7975440"/>
                    <a:ext cx="1152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292640" y="7975440"/>
          <a:ext cx="1538280" cy="118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2640" y="7975440"/>
                    <a:ext cx="153828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156280" y="5246640"/>
          <a:ext cx="1197000" cy="130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56280" y="5246640"/>
                    <a:ext cx="119700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869000" y="67579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81000" y="128124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2: Nommez ces usinages en bois de f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91920" y="18572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92280" y="1857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92280" y="26496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643200" y="23623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55920" y="2362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355920" y="2146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5920" y="2146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43200" y="18572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578480" y="19303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8480" y="19303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8480" y="26510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443560" y="236232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43560" y="2362320"/>
            <a:ext cx="3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02480" y="19303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8480" y="18572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8840" y="1857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8840" y="26496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09760" y="236232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411200" y="2362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698480" y="2146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11200" y="2146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9760" y="185724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92280" y="28656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9920" y="28656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8840" y="29383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27050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anguet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859200" y="32241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9200" y="32241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9200" y="394488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013360" y="322416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60640" y="42321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341360" y="3297240"/>
          <a:ext cx="1513080" cy="63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41360" y="3297240"/>
                    <a:ext cx="1513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13000" y="42321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13360" y="3297240"/>
            <a:ext cx="712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013360" y="336852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13360" y="3441600"/>
            <a:ext cx="712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013360" y="351144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13360" y="3584520"/>
            <a:ext cx="712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013360" y="3656160"/>
            <a:ext cx="69840" cy="7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13360" y="3728880"/>
            <a:ext cx="712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13360" y="380052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13360" y="3873600"/>
            <a:ext cx="712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0280" y="444816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3: Nommez ces assembl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33720" y="344520"/>
            <a:ext cx="2737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evoir Liaisons d’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4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360" y="1857240"/>
            <a:ext cx="61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5: Représentez 5 types de liaisons d’élargissement et nommez 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4640" y="2289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92280" y="2289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8640" y="2289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4640" y="3297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92280" y="3297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08640" y="3297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6280" y="30812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65360" y="30812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81360" y="30812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9360" y="4232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38440" y="4232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54440" y="4232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3360" y="5313240"/>
            <a:ext cx="36036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5313240"/>
            <a:ext cx="1295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05360" y="5241960"/>
            <a:ext cx="2872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7720" y="5816520"/>
            <a:ext cx="1871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84640" y="8337600"/>
            <a:ext cx="30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84640" y="8121600"/>
            <a:ext cx="30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2923920" y="79056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24280" y="7905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24280" y="826596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923920" y="81216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24280" y="79056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03920" y="79056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3360" y="4664160"/>
            <a:ext cx="61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6: Nommez deux possibilités d’assemblage pour chacun des croqu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0280" y="7184880"/>
            <a:ext cx="61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7: Nommez ce type d’assemblage et décrivez comment vous le réaliseriez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0280" y="884088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0280" y="91296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54080" y="61768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54080" y="66088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08640" y="56577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08640" y="66657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0280" y="941688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81360" y="52974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1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81360" y="62881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2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81000" y="58737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1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81000" y="63054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2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evoir Liaisons d’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8A35-4192-46C8-BDDD-8FAC919F41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89000" y="2289240"/>
            <a:ext cx="6264360" cy="5851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6280" y="1639800"/>
            <a:ext cx="3889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6280" y="4376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ure en queue d’ar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65360" y="4737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doigt de g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0000" y="4808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uril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81360" y="6248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micro-den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9000" y="6176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siffl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37000" y="754524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étr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0000" y="7761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tenon morta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280" y="7832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sifflet avec but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60640" y="2505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UTAGE (allong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BFB9-185C-42D4-836C-BABA6C10BA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920" y="2144880"/>
            <a:ext cx="6553080" cy="6911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6280" y="1639800"/>
            <a:ext cx="3889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321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plat j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92640" y="8624880"/>
            <a:ext cx="244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 languet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ong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4280" y="86803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Bouvetage symé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13000" y="538488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3360" y="72579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0000" y="6608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nguette bâta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41720" y="7040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cro-den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9720" y="488160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0000" y="365760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60640" y="2505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Élargiss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68B3-F187-4A24-AA85-A245072E97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1928880"/>
            <a:ext cx="6858000" cy="691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6280" y="1639800"/>
            <a:ext cx="453708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sur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600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5000" y="5024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466560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enfour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6280" y="72579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queue d’ar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2659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non - morta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1DE-3499-425E-B1CF-41FA45A3BD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2792520"/>
            <a:ext cx="6858000" cy="4573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6280" y="1639800"/>
            <a:ext cx="4681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en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656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feuil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41720" y="67532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tour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73360" y="444816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9360" y="444816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dro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437688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mécan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0640" y="689760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queues d’aron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76640" y="56008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coupe d’ong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41720" y="675324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faux tenon ou pig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81000" y="1335240"/>
          <a:ext cx="86364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1335240"/>
                    <a:ext cx="863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33720" y="1335240"/>
          <a:ext cx="7923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3720" y="1335240"/>
                    <a:ext cx="792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2349360" y="1335240"/>
            <a:ext cx="935280" cy="360360"/>
            <a:chOff x="2349360" y="1335240"/>
            <a:chExt cx="935280" cy="360360"/>
          </a:xfrm>
        </p:grpSpPr>
        <p:sp>
          <p:nvSpPr>
            <p:cNvPr id="144" name=""/>
            <p:cNvSpPr/>
            <p:nvPr/>
          </p:nvSpPr>
          <p:spPr>
            <a:xfrm>
              <a:off x="2349360" y="13352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4640" y="1335240"/>
              <a:ext cx="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4640" y="1551600"/>
              <a:ext cx="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04640" y="155160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349360" y="1695600"/>
              <a:ext cx="75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49360" y="13352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16640" y="1406160"/>
            <a:ext cx="718560" cy="287640"/>
            <a:chOff x="5516640" y="1406160"/>
            <a:chExt cx="718560" cy="287640"/>
          </a:xfrm>
        </p:grpSpPr>
        <p:sp>
          <p:nvSpPr>
            <p:cNvPr id="151" name=""/>
            <p:cNvSpPr/>
            <p:nvPr/>
          </p:nvSpPr>
          <p:spPr>
            <a:xfrm>
              <a:off x="5516640" y="1406520"/>
              <a:ext cx="6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183720" y="1454400"/>
              <a:ext cx="5148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6183720" y="1406160"/>
              <a:ext cx="51480" cy="4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516640" y="1693800"/>
              <a:ext cx="6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6640" y="14065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183720" y="1550520"/>
              <a:ext cx="51480" cy="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183720" y="1502280"/>
              <a:ext cx="51480" cy="4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183720" y="1646280"/>
              <a:ext cx="51480" cy="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183720" y="1597680"/>
              <a:ext cx="51480" cy="4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92280" y="84924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es principaux profi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02360" y="16956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cro-den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2000" y="18399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9360" y="17668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ul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76688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uill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0" y="2144880"/>
            <a:ext cx="6858000" cy="374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33360" y="214488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b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6280" y="344016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ture en queue d’aron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41720" y="380052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doigt de g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29360" y="3871800"/>
            <a:ext cx="13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urill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68640" y="4737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micro-den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3360" y="466416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siffl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68640" y="5600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ét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17960" y="567216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tenon morta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4640" y="574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sifflet avec but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9720" y="2144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UTAGE (allong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92280" y="6105600"/>
            <a:ext cx="5716440" cy="3529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17688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f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0280" y="71391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plat j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33720" y="9443880"/>
            <a:ext cx="29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- languette + ong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84280" y="9443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Bouvetage symét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84280" y="77882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-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7231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0000" y="8435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ette bâta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41720" y="85806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cro-d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73360" y="75722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65720" y="70405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33720" y="6392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Élargiss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1424160"/>
            <a:ext cx="6858000" cy="374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76280" y="1424160"/>
            <a:ext cx="453708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sur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4401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76640" y="30798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0000" y="2863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 enfourch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16280" y="42451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queue d’aro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514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non - morta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0" y="5226120"/>
            <a:ext cx="6858000" cy="4573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76280" y="5384880"/>
            <a:ext cx="4681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en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09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feuil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41720" y="9186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tour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73360" y="688176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29360" y="688176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dro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45000" y="681048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mécan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0640" y="933120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queues d’aron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76640" y="80344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coupe d’ong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41720" y="918684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faux tenon ou pig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92280" y="1568520"/>
            <a:ext cx="5716440" cy="352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63980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f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0280" y="2602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3720" y="4906800"/>
            <a:ext cx="29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84280" y="49068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4280" y="3251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186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0000" y="38988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41720" y="4043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73360" y="3035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21000" y="25304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33720" y="1855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Élargiss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58800"/>
            <a:ext cx="685800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5024520"/>
          <a:ext cx="685800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24520"/>
                    <a:ext cx="685800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0" y="1568520"/>
          <a:ext cx="4137120" cy="27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68520"/>
                    <a:ext cx="41371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 flipH="1" flipV="1">
            <a:off x="2060280" y="2936520"/>
            <a:ext cx="73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97000" y="2720520"/>
            <a:ext cx="71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707920" y="329688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53000" y="1928880"/>
          <a:ext cx="2205000" cy="13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3000" y="1928880"/>
                    <a:ext cx="22050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 flipH="1" flipV="1">
            <a:off x="333000" y="408888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64080" y="3295800"/>
          <a:ext cx="2293920" cy="130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64080" y="3295800"/>
                    <a:ext cx="22939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H="1">
            <a:off x="4581360" y="6321600"/>
            <a:ext cx="432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349360" y="69692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00280" y="50245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09760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e te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4820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:                             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0" y="0"/>
          <a:ext cx="6858000" cy="13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9000" y="1424160"/>
            <a:ext cx="64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a mort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1000" y="1065240"/>
            <a:ext cx="58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1: Nommez les parties de la mortaise et du tenon ci-dess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evoir Liaisons d’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3:41:52Z</dcterms:created>
  <dc:creator>Caroline Liadouze</dc:creator>
  <dc:description/>
  <dc:language>en-US</dc:language>
  <cp:lastModifiedBy>seb</cp:lastModifiedBy>
  <dcterms:modified xsi:type="dcterms:W3CDTF">2007-10-10T15:36:50Z</dcterms:modified>
  <cp:revision>48</cp:revision>
  <dc:subject/>
  <dc:title>Diapositive 1</dc:title>
</cp:coreProperties>
</file>