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907588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360-7884-42D4-BAEB-23CCB4EA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11B-C018-4166-B809-59259D01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7A1-D8E0-4C19-BE55-CA8FABE9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E18-0AD4-44DF-A282-67689E52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A26-C6BA-4BE2-835E-48C513DB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213-FBB7-489B-BD1B-E27E8D76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F82-16DD-4E21-A1D8-7159DE80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FB9-367D-4B0D-85A3-DB9C106E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BA6-9DA3-45BC-B28E-AD40E233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13-110C-4640-A638-E3B3C2E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5DF-64FF-43B9-AFB2-C2A9FDB1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963-11DA-4740-8B43-879BDF62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0B3E-50E6-4DC3-8D9F-D6008AFF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B243-4CA8-4167-8351-07A3C7E8AE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81360" y="10652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. L’HYGROSCOPIC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5920" y="1253160"/>
            <a:ext cx="6626160" cy="77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1. Défini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’hygroscopicité est l’aptitude du bois à absorber l’humidité de l’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s facteurs de son niveau hygroscopique sont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2. L’eau dans le boi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2.1. L’eau se présente de 3 façon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mplit les cellules quand leurs membranes sont à 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tuée dans les membranes cellul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ec la matière ligneuse, fait partie de la composition chimique du bo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2.2. Les états caractéristique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s parois ne peuvent être imprégnées que par une certaine quantité d’eau . Quand elles sont complètement imprégnées, ont dit qu’elles sont saturées, ou que l’on a atteint l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60640" y="8985240"/>
            <a:ext cx="33242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DE 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665600"/>
            <a:ext cx="18003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U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89600"/>
            <a:ext cx="32400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U D’IMPREG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113600"/>
            <a:ext cx="36003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U DE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7920" y="21985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son ess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25360" y="2414520"/>
            <a:ext cx="43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le lieu et les conditions de croiss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1360" y="270360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la partie de l’arbre concer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84280" y="291924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la température et l’état hygromé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76320" y="4915080"/>
            <a:ext cx="68580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76320" y="4440240"/>
            <a:ext cx="6858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8280" y="4521240"/>
            <a:ext cx="22557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37000" y="5024520"/>
            <a:ext cx="22557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60280" y="1712880"/>
            <a:ext cx="6481800" cy="2519280"/>
            <a:chOff x="260280" y="1712880"/>
            <a:chExt cx="6481800" cy="251928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2565360" y="1784520"/>
              <a:ext cx="163836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476280" y="1712880"/>
              <a:ext cx="146700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5262480" y="1928880"/>
              <a:ext cx="119088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60280" y="3297240"/>
              <a:ext cx="1903320" cy="90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’eau libre est dans les cellules et entre les cell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59160" y="3297240"/>
              <a:ext cx="204948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’eau libre s’échappe sous la forme de vapeur par les ponctu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41920" y="3297240"/>
              <a:ext cx="20001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’eau d’imprégnation s’échappe, les parois des cellules s’amincis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470320" y="4440240"/>
            <a:ext cx="2612880" cy="4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70320" y="4915080"/>
            <a:ext cx="2612880" cy="48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97000" y="1065240"/>
            <a:ext cx="48690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LE RETRAIT DU B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000" y="74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7840" y="156744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.1. Évacuation de l’eau du bo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7000" y="102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7000" y="14112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1916280" y="495288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1916280" y="4448160"/>
            <a:ext cx="49500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876320" y="4915080"/>
            <a:ext cx="594000" cy="48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76320" y="4440240"/>
            <a:ext cx="594000" cy="4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3429000" y="7257960"/>
            <a:ext cx="3133800" cy="2381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29000" y="6502320"/>
            <a:ext cx="21366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03920" y="8481960"/>
            <a:ext cx="831960" cy="24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71960" y="7402680"/>
            <a:ext cx="831960" cy="24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32640" y="7547040"/>
            <a:ext cx="831600" cy="24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-360" y="549684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.2. Le retra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800" y="650124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: Phénomène inverse du retrait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-384120" y="46418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-384120" y="7023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3360" y="71136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: les termes des sens de retr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3360" y="5745240"/>
            <a:ext cx="6237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l apparaît donc uniquement quand l’eau d’imprégnation s’échap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our H % &lt; à 28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81000" y="1496880"/>
            <a:ext cx="482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urbes d’équilibre hygroscopique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4400" y="2505240"/>
            <a:ext cx="684360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0652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Exe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04640" y="3560760"/>
            <a:ext cx="5496120" cy="1590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3360" y="2289240"/>
            <a:ext cx="261288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s coefficients de rétractabilité du chêne pour passer de 16% à 15 % d’humidité sont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95760" y="2000160"/>
            <a:ext cx="2612880" cy="100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trait longitudinal = 0.0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trait tangentiel = 0.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it radial = 0.1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22600" y="3344760"/>
            <a:ext cx="154332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trait ra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4765680"/>
            <a:ext cx="83196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trait tangenti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6600" y="1810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</a:t>
            </a:r>
            <a:r>
              <a:rPr b="1" lang="en-US" sz="1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er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exempl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4040" y="360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2240" y="3367440"/>
            <a:ext cx="35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 devient un cube de 100 mm d’arête 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2600" y="50115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040" y="69429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89000" y="6969240"/>
            <a:ext cx="2057400" cy="1285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5557680"/>
            <a:ext cx="6858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</a:t>
            </a:r>
            <a:r>
              <a:rPr b="1" lang="en-US" sz="1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ème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exempl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 supposant qu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 ce qui concerne le retrait tangentiel pour une variation d’humidité de 1%, le coefficient de rétractabilité moyen est de 0.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éterminer le retrait tangentiel d’une pièce de 200 mm pour une variation d’humidité de 28% à 15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2050920" y="6113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04640" y="848196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4640" y="891396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4640" y="927432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52640" y="71136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75452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52640" y="79772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28F4-4B4A-44A8-A924-E6A2A89CE2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8640" y="4425840"/>
            <a:ext cx="30877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 chimiq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’eau de constitution disparaî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0640" y="9325080"/>
            <a:ext cx="7128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9440" y="6199200"/>
            <a:ext cx="154296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DS HU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2400" y="6199200"/>
            <a:ext cx="5936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60640" y="6881760"/>
            <a:ext cx="1543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DS ANHY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3960" y="6881760"/>
            <a:ext cx="5936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76200" y="8288280"/>
            <a:ext cx="332424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ids (eau libre + eau de satu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70200" y="8682120"/>
            <a:ext cx="201924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ds anhy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0640" y="9186840"/>
            <a:ext cx="2494080" cy="59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3440" y="9258480"/>
            <a:ext cx="1068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- 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89120" y="9482040"/>
            <a:ext cx="59364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3440" y="9487080"/>
            <a:ext cx="94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01920" y="9325080"/>
            <a:ext cx="6667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0280" y="3850200"/>
            <a:ext cx="62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n morceau de bois chauffé à des températures plus élevées deviendrait d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arbon de bo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51560" y="5286600"/>
            <a:ext cx="470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3. Degré d’humidité ou état hygrométrique du boi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3.1. Une méthode de détermination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56160" y="5987160"/>
            <a:ext cx="3503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. Peser un échantillon (pris dans un lot )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0" y="6802560"/>
            <a:ext cx="375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. Peser le même échantillon rendu anhydr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7760" y="8429040"/>
            <a:ext cx="48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 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3000" y="861552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22360" y="1720800"/>
            <a:ext cx="2968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IS ANHY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0600" y="1356120"/>
            <a:ext cx="573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 Un morceau de bois qui n’a ni eau libre ni eau de saturation est un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49640" y="2647800"/>
            <a:ext cx="32842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écher un échantillon à 105°C (sels pour absorber l’humidité de l’air) jusqu’à ce que son poids ne varie p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1680" y="2199240"/>
            <a:ext cx="37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ur obtenir un échantillon de bois anhydr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9000" y="7816680"/>
            <a:ext cx="42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alculer le degrés d’humidité 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72AE-732B-423A-B462-BB9C42F465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737240"/>
            <a:ext cx="278136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2505240"/>
            <a:ext cx="2849400" cy="1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us les cellules sont de grande dimension et plus les parois de ces cellules sont minces, plus l’arbre pourra contenir d’ea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3480" y="2297160"/>
            <a:ext cx="130680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50 à 20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3480" y="2781360"/>
            <a:ext cx="130680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0 à 9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3480" y="3263760"/>
            <a:ext cx="130680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0 à 14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3480" y="3747960"/>
            <a:ext cx="130680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0 à 9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68840" y="2297160"/>
            <a:ext cx="130644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U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68840" y="2781360"/>
            <a:ext cx="130644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H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68840" y="3263760"/>
            <a:ext cx="130644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AP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68840" y="3747960"/>
            <a:ext cx="130644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68840" y="2297160"/>
            <a:ext cx="2612880" cy="1935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9400" y="74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6120" y="1293120"/>
            <a:ext cx="6345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3.2. Degrés d’humidité des bois sur pied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ls peuvent dépasser 100%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 poids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l peut y avoir plus d’eau que de bois anhyd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9720" y="4231080"/>
            <a:ext cx="33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4. Les dénominations de référenc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04924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’humidité normale de référence est de 12% par convention internation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79600" y="6321600"/>
          <a:ext cx="3578400" cy="35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9600" y="6321600"/>
                    <a:ext cx="35784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811600" y="5672520"/>
            <a:ext cx="38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5. Humidité désirée selon les utilisation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6320" y="4915080"/>
            <a:ext cx="68580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76320" y="4440240"/>
            <a:ext cx="6858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7701-C453-4B09-A8DC-31C57AB2FA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8280" y="4521240"/>
            <a:ext cx="22557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37000" y="5024520"/>
            <a:ext cx="22557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U D’IMPREG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60280" y="1712880"/>
            <a:ext cx="6481800" cy="2519280"/>
            <a:chOff x="260280" y="1712880"/>
            <a:chExt cx="6481800" cy="251928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2565360" y="1784520"/>
              <a:ext cx="163836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476280" y="1712880"/>
              <a:ext cx="146700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5262480" y="1928880"/>
              <a:ext cx="119088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60280" y="3297240"/>
              <a:ext cx="1903320" cy="90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’eau libre est dans les cellules et entre les cell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59160" y="3297240"/>
              <a:ext cx="204948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’eau libre s’échappe sous la forme de vapeur par les ponctu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41920" y="3297240"/>
              <a:ext cx="20001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’eau d’imprégnation s’échappe, les parois des cellules s’amincis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470320" y="4440240"/>
            <a:ext cx="2612880" cy="4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70320" y="4915080"/>
            <a:ext cx="2612880" cy="48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97000" y="1065240"/>
            <a:ext cx="48690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LE RETRAIT DU B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000" y="74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7840" y="156744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.1. Évacuation de l’eau du bo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7000" y="102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000" y="14112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916280" y="495288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1916280" y="4521240"/>
            <a:ext cx="495000" cy="380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876320" y="4915080"/>
            <a:ext cx="594000" cy="48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6320" y="4440240"/>
            <a:ext cx="594000" cy="4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429000" y="7257960"/>
            <a:ext cx="3133800" cy="2381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29000" y="6502320"/>
            <a:ext cx="21366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 GONF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03920" y="8481960"/>
            <a:ext cx="831960" cy="24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7402680"/>
            <a:ext cx="831960" cy="24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32640" y="7547040"/>
            <a:ext cx="831600" cy="24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60" y="549684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.2. Le retra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5800" y="650124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: Phénomène inverse du retrait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84120" y="46418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84120" y="7023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3360" y="71136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: les termes des sens de retr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3360" y="5745240"/>
            <a:ext cx="6237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l apparaît donc uniquement quand l’eau d’imprégnation s’échap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our H % &lt; à 28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D2B0-4746-413F-9322-DE929819B5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81000" y="1496880"/>
            <a:ext cx="482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urbes d’équilibre hygroscopique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400" y="2505240"/>
            <a:ext cx="684360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8BA-4A65-4DA7-952A-E0DC16A012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81360" y="10652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Exe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4640" y="3560760"/>
            <a:ext cx="5496120" cy="1590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33360" y="2289240"/>
            <a:ext cx="261288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s coefficients de rétractabilité du chêne pour passer de 16% à 15 % d’humidité sont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95760" y="2000160"/>
            <a:ext cx="2612880" cy="100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trait longitudinal = 0.0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trait tangentiel = 0.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it radial = 0.1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2600" y="3344760"/>
            <a:ext cx="154332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trait ra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765680"/>
            <a:ext cx="83196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trait tangenti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6600" y="1810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</a:t>
            </a:r>
            <a:r>
              <a:rPr b="1" lang="en-US" sz="1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er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exempl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040" y="360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2240" y="3367440"/>
            <a:ext cx="35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 devient un cube de 100 mm d’arête 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2600" y="50115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040" y="69429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89000" y="6969240"/>
            <a:ext cx="2057400" cy="1285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5557680"/>
            <a:ext cx="6858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</a:t>
            </a:r>
            <a:r>
              <a:rPr b="1" lang="en-US" sz="1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ème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exempl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 supposant qu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 ce qui concerne le retrait tangentiel pour une variation d’humidité de 1%, le coefficient de rétractabilité moyen est de 0.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éterminer le retrait tangentiel d’une pièce de 200 mm pour une variation d’humidité de 28% à 15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050920" y="6113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640" y="848196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4640" y="891396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4640" y="927432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52640" y="71136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52640" y="75452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52640" y="79772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81360" y="10652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. L’HYGROSCOPIC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5920" y="1253160"/>
            <a:ext cx="6626160" cy="77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1. Défini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’hygroscopicité est l’aptitude du bois à absorber l’humidité de l’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s facteurs de son niveau hygroscopique sont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2. L’eau dans le boi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2.1. L’eau se présente de 3 façon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mplit les cellules quand leurs membranes sont à 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tuée dans les membranes cellul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ec la matière ligneuse, fait partie de la composition chimique du bo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2.2. Les états caractéristique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es parois ne peuvent être imprégnées que par une certaine quantité d’eau . Quand elles sont complètement imprégnées, ont dit qu’elles sont saturées, ou que l’on a atteint l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60640" y="8985240"/>
            <a:ext cx="33242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665600"/>
            <a:ext cx="18003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889600"/>
            <a:ext cx="32400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113600"/>
            <a:ext cx="36003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7920" y="21448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25360" y="2414520"/>
            <a:ext cx="43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41360" y="277488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84280" y="313524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28640" y="4425840"/>
            <a:ext cx="30877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 chimiq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’eau de constitution disparaî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0640" y="9325080"/>
            <a:ext cx="7128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9440" y="6199200"/>
            <a:ext cx="154296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2400" y="6199200"/>
            <a:ext cx="5936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60640" y="6881760"/>
            <a:ext cx="1543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03960" y="6881760"/>
            <a:ext cx="59364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76200" y="8288280"/>
            <a:ext cx="332424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ids (eau libre + eau de satu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70200" y="8682120"/>
            <a:ext cx="201924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ds anhy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0640" y="9186840"/>
            <a:ext cx="2494080" cy="59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3440" y="9258480"/>
            <a:ext cx="1068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- 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89120" y="9482040"/>
            <a:ext cx="59364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3440" y="9487080"/>
            <a:ext cx="94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01920" y="9325080"/>
            <a:ext cx="6667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0280" y="3850200"/>
            <a:ext cx="62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n morceau de bois chauffé à des températures plus élevées deviendrait d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151560" y="5286600"/>
            <a:ext cx="470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3. Degré d’humidité ou état hygrométrique du boi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3.1. Une méthode de détermination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56160" y="5987160"/>
            <a:ext cx="3503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. Peser un échantillon (pris dans un lot )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480" y="6802560"/>
            <a:ext cx="375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. Peser le même échantillon rendu anhydr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7760" y="8429040"/>
            <a:ext cx="48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 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13000" y="861552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22360" y="1720800"/>
            <a:ext cx="2968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0600" y="1356120"/>
            <a:ext cx="573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 Un morceau de bois qui n’a ni eau libre ni eau de saturation est un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49640" y="2647800"/>
            <a:ext cx="32842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écher un échantillon à 105°C (sels pour absorber l’humidité de l’air) jusqu’à ce que son poids ne varie p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1680" y="2199240"/>
            <a:ext cx="37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ur obtenir un échantillon de bois anhydr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9000" y="7816680"/>
            <a:ext cx="42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alculer le degrés d’humidité 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932280" y="33804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trait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0" y="4737240"/>
            <a:ext cx="2781360" cy="3066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95280" y="2505240"/>
            <a:ext cx="2849400" cy="1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lus les cellules sont de grande dimension et plus les parois de ces cellules sont minces, plus l’arbre pourra contenir d’ea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3480" y="2297160"/>
            <a:ext cx="130680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50 à 20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3480" y="2781360"/>
            <a:ext cx="130680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0 à 9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3480" y="3263760"/>
            <a:ext cx="130680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0 à 14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3480" y="3747960"/>
            <a:ext cx="130680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0 à 9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68840" y="2297160"/>
            <a:ext cx="130644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U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68840" y="2781360"/>
            <a:ext cx="130644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H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68840" y="3263760"/>
            <a:ext cx="130644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AP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68840" y="3747960"/>
            <a:ext cx="130644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68840" y="2297160"/>
            <a:ext cx="2612880" cy="1935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149400" y="74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6120" y="1293120"/>
            <a:ext cx="6345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3.2. Degrés d’humidité des bois sur pied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ls peuvent dépasser 100%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 poids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l peut y avoir plus d’eau que de bois anhyd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9720" y="4231080"/>
            <a:ext cx="33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.4. Les dénominations de référenc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04924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’humidité normale de référence est de 12% par convention internation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279600" y="6321600"/>
          <a:ext cx="3578400" cy="35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9600" y="6321600"/>
                    <a:ext cx="35784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811600" y="5672520"/>
            <a:ext cx="38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5. Humidité désirée selon les utilisation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3:41:52Z</dcterms:created>
  <dc:creator>Caroline Liadouze</dc:creator>
  <dc:description/>
  <dc:language>en-US</dc:language>
  <cp:lastModifiedBy>seb</cp:lastModifiedBy>
  <dcterms:modified xsi:type="dcterms:W3CDTF">2007-10-15T07:16:35Z</dcterms:modified>
  <cp:revision>43</cp:revision>
  <dc:subject/>
  <dc:title>Diapositive 1</dc:title>
</cp:coreProperties>
</file>